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ADB5C9-EEF8-4627-B677-D0831595B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F3C8FB-BDD4-4194-BC8F-D3ED764B2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104533-D731-4FCE-A450-F6B8686E0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E3DC91-3AA8-4E00-8996-8AE3E7695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0055ED-30EC-4BD9-A4EB-FE809AFC9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5360B2-72DF-4CF0-A6A3-EECAA51B5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C91CE3-0F2F-4B24-8A55-9A5685997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28396E-EEEF-4412-8B3C-3B92BBD49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03DF79-D174-4F3C-8CFA-754C91C06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E0E3AC-54D9-4576-AA83-345F88322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32040" bIns="32040" anchor="t">
            <a:noAutofit/>
          </a:bodyPr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itel: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gevensschets stelse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uteur: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J. Campschroer / W.Krijgs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ie: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1.0.5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12-01-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1DD43F-AE11-45AD-9184-5B9FFA73E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8C73-BA33-4C35-99E6-A88ADF16B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06400" y="393156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A399-879C-44CE-8CB1-06B74E003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762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6592-0358-463A-A71F-9ED08E6BC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64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688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0640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64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688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D7CD-B910-4CC3-826F-94B2170A6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06400" y="1047600"/>
            <a:ext cx="794232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32CA-C868-4F91-B834-08D2C04D0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762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06400" y="393156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762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164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880" y="227628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0640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164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880" y="3931560"/>
            <a:ext cx="2557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6E4A-97E4-4815-82C3-C9E920CD2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7AB3-D08E-40AC-82C2-8379F5C11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8D03-72C1-4B4B-8939-2A6B39F44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6400" y="1047600"/>
            <a:ext cx="794232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D340-50BA-4CD7-951F-E500FEDF5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A29E-6568-4037-868C-5B84FEF24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76200" y="393156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0CCD-FE30-482F-AF20-55A390F72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6200" y="2276280"/>
            <a:ext cx="3875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06400" y="3931560"/>
            <a:ext cx="79423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BF7A-9FC6-4B5F-8544-32E935A49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-31212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18840" indent="-30384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75120" indent="-52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61640" indent="-52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61640" indent="-52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61640" indent="-52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2520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gina </a:t>
            </a:r>
            <a:fld id="{7B33F555-93A0-4E54-B6F0-0B1326FB0F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631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556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E4D91F2D-7CB7-4D9C-9DAB-0A3C2D8D10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513720" algn="ctr"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5480" indent="4827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0640" indent="791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0640" indent="791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0640" indent="791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6312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SGB:  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Referentiemodel 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telsel van Gemeentelijke Basisgegeve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4571640"/>
            <a:ext cx="6945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UF Regiegro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jan Kloosterbo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2 ok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00720" y="3141720"/>
            <a:ext cx="26510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 BAG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2195640" y="2039760"/>
          <a:ext cx="5976720" cy="42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2039760"/>
                    <a:ext cx="5976720" cy="42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4646-8EE7-4975-8DD7-F110FE54F5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et RSGB, wat is he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23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bjecten- of gegevens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meentelijke basisgegevens: het landelijk stelsel en m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ndaardisatie van gegev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gevens die bij elke gemeente uniform opvraagbaar 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prakenkader voor digitale communicatie over gegev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6600"/>
                </a:solidFill>
                <a:latin typeface="Arial"/>
              </a:rPr>
              <a:t>het hart van de gemeentelijke informatie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asis cq. informatiebron voor levering van gemeentelijke producten en dien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opvolger van het GFO Basisgegevens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database(-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040E-B470-4139-B7F6-2087A03D37A2}" type="slidenum">
              <a:t>11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7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7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23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vorderen binnengemeentelijk gebruik basisgegev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-349200"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volger van het GFO BasisGegevens (GFO B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len op landelijk stelsel van basisgegev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-349200"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tegratie en afbakening gemeentelijke basis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malig onderhoud en meervoudig gebruik van basisgegev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-349200"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atorische veran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wisselbaarheid van basisgegevens tussen applic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-349200"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uwe versie van StUF: 03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nutten basisgegevens in de totale informatievoorzie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94B7-BC69-40F1-95A6-E001BF9AF49C}" type="slidenum">
              <a:t>12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0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0"/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0"/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SGB: wat en waa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d1b03"/>
                </a:solidFill>
                <a:latin typeface="Arial"/>
              </a:rPr>
              <a:t>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SGB in de gemeentelijke prakt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agen en discus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4D5B-E69A-4EFA-A40C-26D829F96B4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SGB: ontwikkeli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23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igi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4956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SGB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85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s gevolg van wijzigingen in basisregistraties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RK 1.0.2, NHR 0.9 en PvE NHR 1.6,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85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tschrijdend inzicht (GBA LO 3.6, metagegeve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4956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jzigingenbeheer inrichte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talen naar StUF: StUF-BG 3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breid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4956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SGB Zaken: GFO Zaken en docu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oling om te beheren en te ontslui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motie naar gemeenten, leveranciers en stel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SGB als standaard bij andere e-overheidsprogramm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70BA-7EB4-4B54-8024-D2C3598F91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687708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948360" y="1125000"/>
            <a:ext cx="194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4b0055"/>
                </a:solidFill>
                <a:latin typeface="Arial"/>
              </a:rPr>
              <a:t>RSGB</a:t>
            </a:r>
            <a:br>
              <a:rPr sz="2400"/>
            </a:br>
            <a:r>
              <a:rPr b="1" lang="nl-NL" sz="2400" spc="-1" strike="noStrike">
                <a:solidFill>
                  <a:srgbClr val="4b0055"/>
                </a:solidFill>
                <a:latin typeface="Arial"/>
              </a:rPr>
              <a:t>incl. z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250920" y="260280"/>
          <a:ext cx="6626160" cy="583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0280"/>
                    <a:ext cx="662616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D18F-5C0B-4501-8C8D-CCBC16B7EF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SGB: wat en waa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d1b03"/>
                </a:solidFill>
                <a:latin typeface="Arial"/>
              </a:rPr>
              <a:t>Het RSGB in de gemeentelijke prakt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agen en discus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8CC9-CD4A-4EA9-AB76-7963133F7F5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meentelijke praktijk: situatie n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FO-BG-gebaseerde registraties e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0" y="3205080"/>
            <a:ext cx="4788000" cy="311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5" name=""/>
          <p:cNvGraphicFramePr/>
          <p:nvPr/>
        </p:nvGraphicFramePr>
        <p:xfrm>
          <a:off x="4859280" y="3273480"/>
          <a:ext cx="409752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273480"/>
                    <a:ext cx="409752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"/>
          <p:cNvSpPr/>
          <p:nvPr/>
        </p:nvSpPr>
        <p:spPr>
          <a:xfrm>
            <a:off x="3635280" y="4365720"/>
            <a:ext cx="2665440" cy="718920"/>
          </a:xfrm>
          <a:prstGeom prst="rightArrow">
            <a:avLst>
              <a:gd name="adj1" fmla="val 50000"/>
              <a:gd name="adj2" fmla="val 92689"/>
            </a:avLst>
          </a:prstGeom>
          <a:solidFill>
            <a:srgbClr val="ff99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11D1-BC23-4080-9BCD-A396BD2A2F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942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an GFO-BasisGegevens naar landelijke basisregistraties op basis van het RSG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lijke informatiebehoefte is uitgangs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alleen de catalogus van de landelijke basisregist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aat om het stelsel, niet om een individuele basisregist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5892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woord met het RS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8205-D8C0-4C51-9C6E-6CEF35378D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Arial"/>
              </a:rPr>
              <a:t>Vragen? </a:t>
            </a:r>
            <a:br>
              <a:rPr sz="2900"/>
            </a:br>
            <a:br>
              <a:rPr sz="2900"/>
            </a:br>
            <a:r>
              <a:rPr b="1" lang="nl-NL" sz="2900" spc="-1" strike="noStrike">
                <a:solidFill>
                  <a:srgbClr val="000000"/>
                </a:solidFill>
                <a:latin typeface="Arial"/>
              </a:rPr>
              <a:t>Discussie?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5391000" y="2133720"/>
            <a:ext cx="3583080" cy="41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5D9F-FBD6-4534-BD04-2F3250353B1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SGB: wat en waa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SGB in de gemeentelijke prakt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agen en discus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7B07-3286-4E42-9A80-9259C59C654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d1b03"/>
                </a:solidFill>
                <a:latin typeface="Arial"/>
              </a:rPr>
              <a:t>Het RSGB: wat en waa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SGB in de gemeentelijke prakt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agen en discus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CF6A-60EC-4652-B7E4-46F088B35C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6229440" cy="5095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67280" y="3357720"/>
            <a:ext cx="1439640" cy="1439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9161000">
            <a:off x="1380600" y="3141000"/>
            <a:ext cx="53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d1b03"/>
                </a:solidFill>
                <a:latin typeface="Arial"/>
              </a:rPr>
              <a:t>Sectormodel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6727-1427-4CFB-80C2-73A1431A13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et RSGB, wat is he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79423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bjecten- of gegevens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lijke basisgegevens: het landelijk stelsel en m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A7FA-F14F-49A5-A42A-89A27E8F6BBC}" type="slidenum">
              <a:t>5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2058840"/>
            <a:ext cx="7380360" cy="4799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1640" y="980640"/>
            <a:ext cx="674676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FO Basisgegevens 199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4C05-855F-41F1-8BE8-D75AB32D7BF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84240" y="20574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99080" y="190980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960" y="1338120"/>
            <a:ext cx="970200" cy="971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620059"/>
                </a:solidFill>
                <a:latin typeface="Arial"/>
              </a:rPr>
              <a:t>Gegevensschets van het stelsel per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1640" y="4248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98920" y="375444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240" y="3713040"/>
            <a:ext cx="118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Kv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1360" y="2629080"/>
            <a:ext cx="2873160" cy="1185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2640" y="2754360"/>
            <a:ext cx="1727280" cy="9349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51280" y="1117440"/>
            <a:ext cx="3413160" cy="4759560"/>
          </a:xfrm>
          <a:custGeom>
            <a:avLst/>
            <a:gdLst>
              <a:gd name="textAreaLeft" fmla="*/ 166320 w 3413160"/>
              <a:gd name="textAreaRight" fmla="*/ 3246840 w 3413160"/>
              <a:gd name="textAreaTop" fmla="*/ 166320 h 4759560"/>
              <a:gd name="textAreaBottom" fmla="*/ 4593240 h 4759560"/>
            </a:gdLst>
            <a:ahLst/>
            <a:rect l="textAreaLeft" t="textAreaTop" r="textAreaRight" b="textAreaBottom"/>
            <a:pathLst>
              <a:path w="21600" h="30120">
                <a:moveTo>
                  <a:pt x="3600" y="0"/>
                </a:moveTo>
                <a:arcTo wR="3600" hR="3600" stAng="16200000" swAng="-5400000"/>
                <a:lnTo>
                  <a:pt x="0" y="26520"/>
                </a:lnTo>
                <a:arcTo wR="3600" hR="3600" stAng="10800000" swAng="-5400000"/>
                <a:lnTo>
                  <a:pt x="18000" y="30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43400" y="1216080"/>
            <a:ext cx="614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Ruimtelijk obj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43760" y="4419720"/>
            <a:ext cx="974880" cy="2361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2080" y="4397400"/>
            <a:ext cx="974520" cy="2359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12080" y="4395960"/>
            <a:ext cx="974520" cy="23605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02440" y="4448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52840" y="2638440"/>
            <a:ext cx="30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Pers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47800" y="2894040"/>
            <a:ext cx="735120" cy="831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19360" y="2874960"/>
            <a:ext cx="734760" cy="8319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19360" y="2874960"/>
            <a:ext cx="734760" cy="831960"/>
          </a:xfrm>
          <a:prstGeom prst="rect">
            <a:avLst/>
          </a:prstGeom>
          <a:solidFill>
            <a:srgbClr val="99ff66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99800" y="287820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46360" y="2900520"/>
            <a:ext cx="882720" cy="243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06760" y="2874960"/>
            <a:ext cx="882720" cy="2440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06760" y="2874960"/>
            <a:ext cx="882720" cy="244008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19160" y="287820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NH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421160"/>
            <a:ext cx="1484280" cy="146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97520" y="4397400"/>
            <a:ext cx="1482480" cy="1468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97520" y="4397400"/>
            <a:ext cx="1482480" cy="14684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73720" y="45244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120080" y="4797360"/>
            <a:ext cx="576000" cy="317520"/>
            <a:chOff x="7120080" y="4797360"/>
            <a:chExt cx="576000" cy="317520"/>
          </a:xfrm>
        </p:grpSpPr>
        <p:sp>
          <p:nvSpPr>
            <p:cNvPr id="131" name=""/>
            <p:cNvSpPr/>
            <p:nvPr/>
          </p:nvSpPr>
          <p:spPr>
            <a:xfrm>
              <a:off x="7120080" y="4797360"/>
              <a:ext cx="57600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20080" y="4797360"/>
              <a:ext cx="57600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184880" y="4892760"/>
            <a:ext cx="43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Woonplaa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18080" y="1344600"/>
            <a:ext cx="2127240" cy="959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84600" y="1311120"/>
            <a:ext cx="2111400" cy="966960"/>
          </a:xfrm>
          <a:prstGeom prst="rect">
            <a:avLst/>
          </a:prstGeom>
          <a:solidFill>
            <a:srgbClr val="66ff66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91080" y="13017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27920" y="2459160"/>
            <a:ext cx="969840" cy="87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96240" y="2432160"/>
            <a:ext cx="969840" cy="871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96240" y="2432160"/>
            <a:ext cx="969840" cy="8715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07280" y="2511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BK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2080" y="1335240"/>
            <a:ext cx="969840" cy="96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80400" y="1306440"/>
            <a:ext cx="969840" cy="968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80400" y="1306440"/>
            <a:ext cx="969840" cy="96840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93000" y="13176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39160" y="1809720"/>
            <a:ext cx="69660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39160" y="1809720"/>
            <a:ext cx="696600" cy="31752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44280" y="1847880"/>
            <a:ext cx="46260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Kleinschali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43920" y="1974960"/>
            <a:ext cx="41256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Geo-obj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4040" y="5956200"/>
            <a:ext cx="107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51" idx="2"/>
            <a:endCxn id="152" idx="0"/>
          </p:cNvCxnSpPr>
          <p:nvPr/>
        </p:nvCxnSpPr>
        <p:spPr>
          <a:xfrm>
            <a:off x="7405200" y="6194160"/>
            <a:ext cx="2520" cy="130680"/>
          </a:xfrm>
          <a:prstGeom prst="straightConnector1">
            <a:avLst/>
          </a:prstGeom>
          <a:ln w="19080">
            <a:solidFill>
              <a:srgbClr val="0066cc"/>
            </a:solidFill>
            <a:miter/>
          </a:ln>
        </p:spPr>
      </p:cxnSp>
      <p:cxnSp>
        <p:nvCxnSpPr>
          <p:cNvPr id="153" name=""/>
          <p:cNvCxnSpPr>
            <a:stCxn id="132" idx="2"/>
            <a:endCxn id="151" idx="0"/>
          </p:cNvCxnSpPr>
          <p:nvPr/>
        </p:nvCxnSpPr>
        <p:spPr>
          <a:xfrm flipH="1">
            <a:off x="7404840" y="5114520"/>
            <a:ext cx="3960" cy="762840"/>
          </a:xfrm>
          <a:prstGeom prst="straightConnector1">
            <a:avLst/>
          </a:prstGeom>
          <a:ln w="19080">
            <a:solidFill>
              <a:srgbClr val="0066cc"/>
            </a:solidFill>
            <a:miter/>
          </a:ln>
        </p:spPr>
      </p:cxnSp>
      <p:cxnSp>
        <p:nvCxnSpPr>
          <p:cNvPr id="154" name=""/>
          <p:cNvCxnSpPr>
            <a:stCxn id="132" idx="3"/>
            <a:endCxn id="152" idx="3"/>
          </p:cNvCxnSpPr>
          <p:nvPr/>
        </p:nvCxnSpPr>
        <p:spPr>
          <a:xfrm flipH="1">
            <a:off x="7690680" y="4955760"/>
            <a:ext cx="5400" cy="1537560"/>
          </a:xfrm>
          <a:prstGeom prst="bentConnector3">
            <a:avLst>
              <a:gd name="adj1" fmla="val -4800000"/>
            </a:avLst>
          </a:prstGeom>
          <a:ln w="19080">
            <a:solidFill>
              <a:srgbClr val="0066cc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5824440" y="57070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34120" y="641664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8" idx="4"/>
            <a:endCxn id="159" idx="2"/>
          </p:cNvCxnSpPr>
          <p:nvPr/>
        </p:nvCxnSpPr>
        <p:spPr>
          <a:xfrm flipH="1" rot="16200000">
            <a:off x="3841560" y="4361400"/>
            <a:ext cx="442080" cy="200268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3025800" y="50706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84120" y="535932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34640" y="373536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25800" y="47480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4" idx="4"/>
            <a:endCxn id="162" idx="0"/>
          </p:cNvCxnSpPr>
          <p:nvPr/>
        </p:nvCxnSpPr>
        <p:spPr>
          <a:xfrm flipV="1" rot="10800000">
            <a:off x="3061440" y="4501800"/>
            <a:ext cx="1080" cy="24660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3025800" y="44308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45120" y="19828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9200" y="420372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4200" y="230976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22760" y="230364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07040" y="530712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07040" y="471816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90680" y="197640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95000" y="1703520"/>
            <a:ext cx="11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I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60520" y="1344600"/>
            <a:ext cx="969840" cy="965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28840" y="1306440"/>
            <a:ext cx="969840" cy="968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28840" y="1306440"/>
            <a:ext cx="969840" cy="96840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1440" y="1314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36800" y="20494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4160" y="1306440"/>
            <a:ext cx="969840" cy="961920"/>
          </a:xfrm>
          <a:prstGeom prst="rect">
            <a:avLst/>
          </a:prstGeom>
          <a:solidFill>
            <a:srgbClr val="ff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3520" y="13143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2720" y="205416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41480" y="233532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7680" y="234144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85880" y="1341360"/>
            <a:ext cx="970200" cy="96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4200" y="1403280"/>
            <a:ext cx="970200" cy="871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4200" y="1306440"/>
            <a:ext cx="970200" cy="968400"/>
          </a:xfrm>
          <a:prstGeom prst="rect">
            <a:avLst/>
          </a:prstGeom>
          <a:solidFill>
            <a:srgbClr val="ffcc66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67160" y="13143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01880" y="20494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45160" y="231624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84320" y="20494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9200" y="231624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92240" y="230652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7920" y="2894040"/>
            <a:ext cx="735120" cy="831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7400" y="2879640"/>
            <a:ext cx="735120" cy="8319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5960" y="2874960"/>
            <a:ext cx="734760" cy="8319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16360" y="2870280"/>
            <a:ext cx="234360" cy="168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939960" y="3152880"/>
            <a:ext cx="634680" cy="436320"/>
            <a:chOff x="939960" y="3152880"/>
            <a:chExt cx="634680" cy="436320"/>
          </a:xfrm>
        </p:grpSpPr>
        <p:grpSp>
          <p:nvGrpSpPr>
            <p:cNvPr id="197" name=""/>
            <p:cNvGrpSpPr/>
            <p:nvPr/>
          </p:nvGrpSpPr>
          <p:grpSpPr>
            <a:xfrm>
              <a:off x="939960" y="3152880"/>
              <a:ext cx="634680" cy="436320"/>
              <a:chOff x="939960" y="3152880"/>
              <a:chExt cx="634680" cy="436320"/>
            </a:xfrm>
          </p:grpSpPr>
          <p:sp>
            <p:nvSpPr>
              <p:cNvPr id="198" name=""/>
              <p:cNvSpPr/>
              <p:nvPr/>
            </p:nvSpPr>
            <p:spPr>
              <a:xfrm>
                <a:off x="939960" y="3152880"/>
                <a:ext cx="634680" cy="4363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39960" y="3152880"/>
                <a:ext cx="634680" cy="4363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172160" y="3240000"/>
              <a:ext cx="17604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Niet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64160" y="3367080"/>
              <a:ext cx="40788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Ingezeten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040520" y="3436920"/>
            <a:ext cx="969840" cy="87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08840" y="3409920"/>
            <a:ext cx="969840" cy="871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08840" y="3409920"/>
            <a:ext cx="969840" cy="8715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19880" y="348948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167600" y="3816360"/>
            <a:ext cx="696960" cy="317520"/>
            <a:chOff x="7167600" y="3816360"/>
            <a:chExt cx="696960" cy="317520"/>
          </a:xfrm>
        </p:grpSpPr>
        <p:sp>
          <p:nvSpPr>
            <p:cNvPr id="207" name=""/>
            <p:cNvSpPr/>
            <p:nvPr/>
          </p:nvSpPr>
          <p:spPr>
            <a:xfrm>
              <a:off x="7167600" y="3816360"/>
              <a:ext cx="69696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7600" y="3816360"/>
              <a:ext cx="69696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267680" y="3867120"/>
            <a:ext cx="52992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Ondergrond”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12920" y="1805040"/>
            <a:ext cx="696600" cy="323640"/>
            <a:chOff x="412920" y="1805040"/>
            <a:chExt cx="696600" cy="323640"/>
          </a:xfrm>
        </p:grpSpPr>
        <p:grpSp>
          <p:nvGrpSpPr>
            <p:cNvPr id="211" name=""/>
            <p:cNvGrpSpPr/>
            <p:nvPr/>
          </p:nvGrpSpPr>
          <p:grpSpPr>
            <a:xfrm>
              <a:off x="412920" y="1805040"/>
              <a:ext cx="696600" cy="323640"/>
              <a:chOff x="412920" y="1805040"/>
              <a:chExt cx="696600" cy="323640"/>
            </a:xfrm>
          </p:grpSpPr>
          <p:sp>
            <p:nvSpPr>
              <p:cNvPr id="212" name=""/>
              <p:cNvSpPr/>
              <p:nvPr/>
            </p:nvSpPr>
            <p:spPr>
              <a:xfrm>
                <a:off x="412920" y="1805040"/>
                <a:ext cx="696600" cy="323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2920" y="1805040"/>
                <a:ext cx="696600" cy="32364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495720" y="1833480"/>
              <a:ext cx="49320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Gekenteke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6080" y="1958760"/>
              <a:ext cx="32112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Voertui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784520" y="3152880"/>
            <a:ext cx="634680" cy="436320"/>
            <a:chOff x="1784520" y="3152880"/>
            <a:chExt cx="634680" cy="436320"/>
          </a:xfrm>
        </p:grpSpPr>
        <p:grpSp>
          <p:nvGrpSpPr>
            <p:cNvPr id="217" name=""/>
            <p:cNvGrpSpPr/>
            <p:nvPr/>
          </p:nvGrpSpPr>
          <p:grpSpPr>
            <a:xfrm>
              <a:off x="1784520" y="3152880"/>
              <a:ext cx="634680" cy="436320"/>
              <a:chOff x="1784520" y="3152880"/>
              <a:chExt cx="634680" cy="436320"/>
            </a:xfrm>
          </p:grpSpPr>
          <p:sp>
            <p:nvSpPr>
              <p:cNvPr id="218" name=""/>
              <p:cNvSpPr/>
              <p:nvPr/>
            </p:nvSpPr>
            <p:spPr>
              <a:xfrm>
                <a:off x="1784520" y="3152880"/>
                <a:ext cx="634680" cy="4363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84520" y="3152880"/>
                <a:ext cx="634680" cy="4363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1905480" y="3244680"/>
              <a:ext cx="39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Ingezeten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670120" y="3152880"/>
            <a:ext cx="747720" cy="436320"/>
            <a:chOff x="2670120" y="3152880"/>
            <a:chExt cx="747720" cy="436320"/>
          </a:xfrm>
        </p:grpSpPr>
        <p:grpSp>
          <p:nvGrpSpPr>
            <p:cNvPr id="222" name=""/>
            <p:cNvGrpSpPr/>
            <p:nvPr/>
          </p:nvGrpSpPr>
          <p:grpSpPr>
            <a:xfrm>
              <a:off x="2670120" y="3152880"/>
              <a:ext cx="747720" cy="436320"/>
              <a:chOff x="2670120" y="3152880"/>
              <a:chExt cx="747720" cy="436320"/>
            </a:xfrm>
          </p:grpSpPr>
          <p:sp>
            <p:nvSpPr>
              <p:cNvPr id="223" name=""/>
              <p:cNvSpPr/>
              <p:nvPr/>
            </p:nvSpPr>
            <p:spPr>
              <a:xfrm>
                <a:off x="2670120" y="3152880"/>
                <a:ext cx="747720" cy="4363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70120" y="3152880"/>
                <a:ext cx="747720" cy="4363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2878200" y="3181320"/>
              <a:ext cx="354240" cy="345240"/>
              <a:chOff x="2878200" y="3181320"/>
              <a:chExt cx="354240" cy="345240"/>
            </a:xfrm>
          </p:grpSpPr>
          <p:sp>
            <p:nvSpPr>
              <p:cNvPr id="226" name=""/>
              <p:cNvSpPr/>
              <p:nvPr/>
            </p:nvSpPr>
            <p:spPr>
              <a:xfrm>
                <a:off x="2989080" y="3181320"/>
                <a:ext cx="14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Nie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78200" y="3308040"/>
                <a:ext cx="3542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Natuurlijk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927160" y="3434760"/>
                <a:ext cx="3038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perso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2670120" y="4748040"/>
            <a:ext cx="765360" cy="397080"/>
            <a:chOff x="2670120" y="4748040"/>
            <a:chExt cx="765360" cy="397080"/>
          </a:xfrm>
        </p:grpSpPr>
        <p:grpSp>
          <p:nvGrpSpPr>
            <p:cNvPr id="230" name=""/>
            <p:cNvGrpSpPr/>
            <p:nvPr/>
          </p:nvGrpSpPr>
          <p:grpSpPr>
            <a:xfrm>
              <a:off x="2670120" y="4748040"/>
              <a:ext cx="765360" cy="397080"/>
              <a:chOff x="2670120" y="4748040"/>
              <a:chExt cx="765360" cy="397080"/>
            </a:xfrm>
          </p:grpSpPr>
          <p:sp>
            <p:nvSpPr>
              <p:cNvPr id="231" name=""/>
              <p:cNvSpPr/>
              <p:nvPr/>
            </p:nvSpPr>
            <p:spPr>
              <a:xfrm>
                <a:off x="2670120" y="4748040"/>
                <a:ext cx="765360" cy="3970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70120" y="4748040"/>
                <a:ext cx="765360" cy="3970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2907360" y="4895640"/>
              <a:ext cx="34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Vestig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587600" y="1809720"/>
            <a:ext cx="69696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587600" y="1809720"/>
            <a:ext cx="696960" cy="317520"/>
            <a:chOff x="1587600" y="1809720"/>
            <a:chExt cx="696960" cy="317520"/>
          </a:xfrm>
        </p:grpSpPr>
        <p:sp>
          <p:nvSpPr>
            <p:cNvPr id="236" name=""/>
            <p:cNvSpPr/>
            <p:nvPr/>
          </p:nvSpPr>
          <p:spPr>
            <a:xfrm>
              <a:off x="1587600" y="1809720"/>
              <a:ext cx="69696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74800" y="1917720"/>
              <a:ext cx="32544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Inkome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668680" y="1803240"/>
            <a:ext cx="696960" cy="31752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120080" y="5877000"/>
            <a:ext cx="571320" cy="317160"/>
            <a:chOff x="7120080" y="5877000"/>
            <a:chExt cx="571320" cy="317160"/>
          </a:xfrm>
        </p:grpSpPr>
        <p:grpSp>
          <p:nvGrpSpPr>
            <p:cNvPr id="240" name=""/>
            <p:cNvGrpSpPr/>
            <p:nvPr/>
          </p:nvGrpSpPr>
          <p:grpSpPr>
            <a:xfrm>
              <a:off x="7120080" y="5877000"/>
              <a:ext cx="571320" cy="317160"/>
              <a:chOff x="7120080" y="5877000"/>
              <a:chExt cx="571320" cy="317160"/>
            </a:xfrm>
          </p:grpSpPr>
          <p:sp>
            <p:nvSpPr>
              <p:cNvPr id="241" name=""/>
              <p:cNvSpPr/>
              <p:nvPr/>
            </p:nvSpPr>
            <p:spPr>
              <a:xfrm>
                <a:off x="7120080" y="5877000"/>
                <a:ext cx="571320" cy="3171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20080" y="5877000"/>
                <a:ext cx="571320" cy="31716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7243920" y="5918040"/>
              <a:ext cx="35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Openbar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03680" y="6045120"/>
              <a:ext cx="234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ruim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121520" y="6324480"/>
            <a:ext cx="569880" cy="336600"/>
            <a:chOff x="7121520" y="6324480"/>
            <a:chExt cx="569880" cy="336600"/>
          </a:xfrm>
        </p:grpSpPr>
        <p:grpSp>
          <p:nvGrpSpPr>
            <p:cNvPr id="245" name=""/>
            <p:cNvGrpSpPr/>
            <p:nvPr/>
          </p:nvGrpSpPr>
          <p:grpSpPr>
            <a:xfrm>
              <a:off x="7121520" y="6324480"/>
              <a:ext cx="569880" cy="336600"/>
              <a:chOff x="7121520" y="6324480"/>
              <a:chExt cx="569880" cy="336600"/>
            </a:xfrm>
          </p:grpSpPr>
          <p:sp>
            <p:nvSpPr>
              <p:cNvPr id="246" name=""/>
              <p:cNvSpPr/>
              <p:nvPr/>
            </p:nvSpPr>
            <p:spPr>
              <a:xfrm>
                <a:off x="7121520" y="6324480"/>
                <a:ext cx="569880" cy="3366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21520" y="6324480"/>
                <a:ext cx="569880" cy="33660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7251120" y="6395040"/>
              <a:ext cx="33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Nummer-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31680" y="6493320"/>
              <a:ext cx="412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aanduid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054760" y="5230800"/>
            <a:ext cx="1368360" cy="555480"/>
            <a:chOff x="5054760" y="5230800"/>
            <a:chExt cx="1368360" cy="555480"/>
          </a:xfrm>
        </p:grpSpPr>
        <p:grpSp>
          <p:nvGrpSpPr>
            <p:cNvPr id="250" name=""/>
            <p:cNvGrpSpPr/>
            <p:nvPr/>
          </p:nvGrpSpPr>
          <p:grpSpPr>
            <a:xfrm>
              <a:off x="5054760" y="5230800"/>
              <a:ext cx="1368360" cy="555480"/>
              <a:chOff x="5054760" y="5230800"/>
              <a:chExt cx="1368360" cy="555480"/>
            </a:xfrm>
          </p:grpSpPr>
          <p:sp>
            <p:nvSpPr>
              <p:cNvPr id="251" name=""/>
              <p:cNvSpPr/>
              <p:nvPr/>
            </p:nvSpPr>
            <p:spPr>
              <a:xfrm>
                <a:off x="5054760" y="5230800"/>
                <a:ext cx="1368360" cy="5554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54760" y="5230800"/>
                <a:ext cx="1368360" cy="55548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5312880" y="5655960"/>
              <a:ext cx="784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Adresseerbaar 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111640" y="5310360"/>
            <a:ext cx="569880" cy="317160"/>
            <a:chOff x="5111640" y="5310360"/>
            <a:chExt cx="569880" cy="317160"/>
          </a:xfrm>
        </p:grpSpPr>
        <p:sp>
          <p:nvSpPr>
            <p:cNvPr id="255" name=""/>
            <p:cNvSpPr/>
            <p:nvPr/>
          </p:nvSpPr>
          <p:spPr>
            <a:xfrm>
              <a:off x="5111640" y="5310360"/>
              <a:ext cx="569880" cy="317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11640" y="5310360"/>
              <a:ext cx="569880" cy="31716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174280" y="5342040"/>
            <a:ext cx="45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Standplaats,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81840" y="5468760"/>
            <a:ext cx="339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Ligplaa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738760" y="5310360"/>
            <a:ext cx="569880" cy="317160"/>
            <a:chOff x="5738760" y="5310360"/>
            <a:chExt cx="569880" cy="317160"/>
          </a:xfrm>
        </p:grpSpPr>
        <p:grpSp>
          <p:nvGrpSpPr>
            <p:cNvPr id="260" name=""/>
            <p:cNvGrpSpPr/>
            <p:nvPr/>
          </p:nvGrpSpPr>
          <p:grpSpPr>
            <a:xfrm>
              <a:off x="5738760" y="5310360"/>
              <a:ext cx="569880" cy="317160"/>
              <a:chOff x="5738760" y="5310360"/>
              <a:chExt cx="569880" cy="317160"/>
            </a:xfrm>
          </p:grpSpPr>
          <p:sp>
            <p:nvSpPr>
              <p:cNvPr id="261" name=""/>
              <p:cNvSpPr/>
              <p:nvPr/>
            </p:nvSpPr>
            <p:spPr>
              <a:xfrm>
                <a:off x="5738760" y="5310360"/>
                <a:ext cx="569880" cy="3171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38760" y="5310360"/>
                <a:ext cx="569880" cy="31716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5854680" y="5341680"/>
              <a:ext cx="32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Verblijfs-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20920" y="5468760"/>
              <a:ext cx="22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738760" y="4476600"/>
            <a:ext cx="577800" cy="317520"/>
            <a:chOff x="5738760" y="4476600"/>
            <a:chExt cx="577800" cy="317520"/>
          </a:xfrm>
        </p:grpSpPr>
        <p:grpSp>
          <p:nvGrpSpPr>
            <p:cNvPr id="266" name=""/>
            <p:cNvGrpSpPr/>
            <p:nvPr/>
          </p:nvGrpSpPr>
          <p:grpSpPr>
            <a:xfrm>
              <a:off x="5738760" y="4476600"/>
              <a:ext cx="577800" cy="317520"/>
              <a:chOff x="5738760" y="4476600"/>
              <a:chExt cx="577800" cy="317520"/>
            </a:xfrm>
          </p:grpSpPr>
          <p:sp>
            <p:nvSpPr>
              <p:cNvPr id="267" name=""/>
              <p:cNvSpPr/>
              <p:nvPr/>
            </p:nvSpPr>
            <p:spPr>
              <a:xfrm>
                <a:off x="5738760" y="4476600"/>
                <a:ext cx="577800" cy="3175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38760" y="4476600"/>
                <a:ext cx="577800" cy="3175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5958360" y="4572000"/>
              <a:ext cx="18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Pa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915840" y="3127320"/>
            <a:ext cx="1522440" cy="48744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63880" y="351648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2240" y="2771640"/>
            <a:ext cx="678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Natuurlijk pers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4" idx="0"/>
            <a:endCxn id="177" idx="4"/>
          </p:cNvCxnSpPr>
          <p:nvPr/>
        </p:nvCxnSpPr>
        <p:spPr>
          <a:xfrm flipH="1" flipV="1" rot="5400000">
            <a:off x="1323720" y="2474280"/>
            <a:ext cx="1003680" cy="295560"/>
          </a:xfrm>
          <a:prstGeom prst="bentConnector3">
            <a:avLst>
              <a:gd name="adj1" fmla="val 67707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74" idx="0"/>
            <a:endCxn id="187" idx="4"/>
          </p:cNvCxnSpPr>
          <p:nvPr/>
        </p:nvCxnSpPr>
        <p:spPr>
          <a:xfrm flipH="1" flipV="1" rot="5400000">
            <a:off x="1756440" y="2041560"/>
            <a:ext cx="1003680" cy="1161360"/>
          </a:xfrm>
          <a:prstGeom prst="bentConnector3">
            <a:avLst>
              <a:gd name="adj1" fmla="val 67707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7" idx="0"/>
            <a:endCxn id="189" idx="4"/>
          </p:cNvCxnSpPr>
          <p:nvPr/>
        </p:nvCxnSpPr>
        <p:spPr>
          <a:xfrm flipH="1" flipV="1" rot="5400000">
            <a:off x="2311920" y="2541960"/>
            <a:ext cx="1031040" cy="187920"/>
          </a:xfrm>
          <a:prstGeom prst="bentConnector3">
            <a:avLst>
              <a:gd name="adj1" fmla="val 5682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9" idx="4"/>
            <a:endCxn id="280" idx="2"/>
          </p:cNvCxnSpPr>
          <p:nvPr/>
        </p:nvCxnSpPr>
        <p:spPr>
          <a:xfrm flipH="1" rot="16200000">
            <a:off x="2237040" y="3685320"/>
            <a:ext cx="529200" cy="396000"/>
          </a:xfrm>
          <a:prstGeom prst="bentConnector2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9" idx="4"/>
            <a:endCxn id="282" idx="2"/>
          </p:cNvCxnSpPr>
          <p:nvPr/>
        </p:nvCxnSpPr>
        <p:spPr>
          <a:xfrm flipH="1" flipV="1" rot="5400000">
            <a:off x="2469240" y="3389760"/>
            <a:ext cx="64080" cy="396000"/>
          </a:xfrm>
          <a:prstGeom prst="bentConnector4">
            <a:avLst>
              <a:gd name="adj1" fmla="val -824858"/>
              <a:gd name="adj2" fmla="val 65059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7" idx="0"/>
            <a:endCxn id="180" idx="4"/>
          </p:cNvCxnSpPr>
          <p:nvPr/>
        </p:nvCxnSpPr>
        <p:spPr>
          <a:xfrm flipV="1" rot="16200000">
            <a:off x="1313280" y="1730520"/>
            <a:ext cx="1026000" cy="1815480"/>
          </a:xfrm>
          <a:prstGeom prst="bentConnector3">
            <a:avLst>
              <a:gd name="adj1" fmla="val 5724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endCxn id="102" idx="4"/>
          </p:cNvCxnSpPr>
          <p:nvPr/>
        </p:nvCxnSpPr>
        <p:spPr>
          <a:xfrm flipV="1" rot="16200000">
            <a:off x="855000" y="2292840"/>
            <a:ext cx="988200" cy="658080"/>
          </a:xfrm>
          <a:prstGeom prst="bentConnector3">
            <a:avLst>
              <a:gd name="adj1" fmla="val 6814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1" idx="4"/>
            <a:endCxn id="159" idx="2"/>
          </p:cNvCxnSpPr>
          <p:nvPr/>
        </p:nvCxnSpPr>
        <p:spPr>
          <a:xfrm flipH="1" rot="16200000">
            <a:off x="2583360" y="3103200"/>
            <a:ext cx="1996200" cy="296460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cxnSp>
        <p:nvCxnSpPr>
          <p:cNvPr id="286" name=""/>
          <p:cNvCxnSpPr>
            <a:stCxn id="155" idx="4"/>
            <a:endCxn id="152" idx="1"/>
          </p:cNvCxnSpPr>
          <p:nvPr/>
        </p:nvCxnSpPr>
        <p:spPr>
          <a:xfrm flipH="1" rot="16200000">
            <a:off x="6132960" y="5505120"/>
            <a:ext cx="715320" cy="126108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cxnSp>
        <p:nvCxnSpPr>
          <p:cNvPr id="287" name=""/>
          <p:cNvCxnSpPr>
            <a:stCxn id="288" idx="4"/>
            <a:endCxn id="289" idx="0"/>
          </p:cNvCxnSpPr>
          <p:nvPr/>
        </p:nvCxnSpPr>
        <p:spPr>
          <a:xfrm flipV="1" rot="10800000">
            <a:off x="3093480" y="1656720"/>
            <a:ext cx="1080" cy="14472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sp>
        <p:nvSpPr>
          <p:cNvPr id="290" name=""/>
          <p:cNvSpPr/>
          <p:nvPr/>
        </p:nvSpPr>
        <p:spPr>
          <a:xfrm>
            <a:off x="3741840" y="1809720"/>
            <a:ext cx="57780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41840" y="1812960"/>
            <a:ext cx="577800" cy="31428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36240" y="1949400"/>
            <a:ext cx="22356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Rech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95920" y="1863720"/>
            <a:ext cx="29196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Zakelij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"/>
          <p:cNvCxnSpPr>
            <a:endCxn id="295" idx="4"/>
          </p:cNvCxnSpPr>
          <p:nvPr/>
        </p:nvCxnSpPr>
        <p:spPr>
          <a:xfrm flipH="1" flipV="1" rot="5400000">
            <a:off x="3735720" y="2340000"/>
            <a:ext cx="446760" cy="3960"/>
          </a:xfrm>
          <a:prstGeom prst="bentConnector3">
            <a:avLst>
              <a:gd name="adj1" fmla="val 4975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endCxn id="297" idx="4"/>
          </p:cNvCxnSpPr>
          <p:nvPr/>
        </p:nvCxnSpPr>
        <p:spPr>
          <a:xfrm flipV="1">
            <a:off x="1800360" y="2121840"/>
            <a:ext cx="2070720" cy="324360"/>
          </a:xfrm>
          <a:prstGeom prst="bentConnector2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grpSp>
        <p:nvGrpSpPr>
          <p:cNvPr id="298" name=""/>
          <p:cNvGrpSpPr/>
          <p:nvPr/>
        </p:nvGrpSpPr>
        <p:grpSpPr>
          <a:xfrm>
            <a:off x="7155000" y="3044880"/>
            <a:ext cx="696600" cy="214200"/>
            <a:chOff x="7155000" y="3044880"/>
            <a:chExt cx="696600" cy="214200"/>
          </a:xfrm>
        </p:grpSpPr>
        <p:sp>
          <p:nvSpPr>
            <p:cNvPr id="299" name=""/>
            <p:cNvSpPr/>
            <p:nvPr/>
          </p:nvSpPr>
          <p:spPr>
            <a:xfrm>
              <a:off x="7155000" y="3044880"/>
              <a:ext cx="696600" cy="214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55000" y="3044880"/>
              <a:ext cx="696600" cy="21420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257240" y="3098880"/>
            <a:ext cx="43668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Lijnel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48120" y="19828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48120" y="1336680"/>
            <a:ext cx="824040" cy="847800"/>
          </a:xfrm>
          <a:custGeom>
            <a:avLst/>
            <a:gdLst>
              <a:gd name="textAreaLeft" fmla="*/ 39960 w 824040"/>
              <a:gd name="textAreaRight" fmla="*/ 784080 w 824040"/>
              <a:gd name="textAreaTop" fmla="*/ 39960 h 847800"/>
              <a:gd name="textAreaBottom" fmla="*/ 807840 h 847800"/>
            </a:gdLst>
            <a:ahLst/>
            <a:rect l="textAreaLeft" t="textAreaTop" r="textAreaRight" b="textAreaBottom"/>
            <a:pathLst>
              <a:path w="21600" h="22223">
                <a:moveTo>
                  <a:pt x="3600" y="0"/>
                </a:moveTo>
                <a:arcTo wR="3600" hR="3600" stAng="16200000" swAng="-5400000"/>
                <a:lnTo>
                  <a:pt x="0" y="18623"/>
                </a:lnTo>
                <a:arcTo wR="3600" hR="3600" stAng="10800000" swAng="-5400000"/>
                <a:lnTo>
                  <a:pt x="18000" y="222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42080" y="1352520"/>
            <a:ext cx="62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Onroerende zaa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165" idx="6"/>
            <a:endCxn id="302" idx="2"/>
          </p:cNvCxnSpPr>
          <p:nvPr/>
        </p:nvCxnSpPr>
        <p:spPr>
          <a:xfrm>
            <a:off x="4316040" y="2018880"/>
            <a:ext cx="532440" cy="108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cxnSp>
        <p:nvCxnSpPr>
          <p:cNvPr id="306" name=""/>
          <p:cNvCxnSpPr>
            <a:stCxn id="307" idx="6"/>
            <a:endCxn id="308" idx="2"/>
          </p:cNvCxnSpPr>
          <p:nvPr/>
        </p:nvCxnSpPr>
        <p:spPr>
          <a:xfrm>
            <a:off x="5668920" y="1812960"/>
            <a:ext cx="1456560" cy="4147200"/>
          </a:xfrm>
          <a:prstGeom prst="bentConnector3">
            <a:avLst>
              <a:gd name="adj1" fmla="val 77206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cxnSp>
        <p:nvCxnSpPr>
          <p:cNvPr id="309" name=""/>
          <p:cNvCxnSpPr>
            <a:stCxn id="103" idx="6"/>
            <a:endCxn id="310" idx="0"/>
          </p:cNvCxnSpPr>
          <p:nvPr/>
        </p:nvCxnSpPr>
        <p:spPr>
          <a:xfrm>
            <a:off x="5670360" y="1946160"/>
            <a:ext cx="695520" cy="328680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4879800" y="1479600"/>
            <a:ext cx="744840" cy="244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18320" y="209700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95760" y="195588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79800" y="1905120"/>
            <a:ext cx="744840" cy="176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75200" y="1501920"/>
            <a:ext cx="535320" cy="202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Appartemen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rech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155000" y="2673360"/>
            <a:ext cx="696600" cy="317520"/>
            <a:chOff x="7155000" y="2673360"/>
            <a:chExt cx="696600" cy="317520"/>
          </a:xfrm>
        </p:grpSpPr>
        <p:grpSp>
          <p:nvGrpSpPr>
            <p:cNvPr id="317" name=""/>
            <p:cNvGrpSpPr/>
            <p:nvPr/>
          </p:nvGrpSpPr>
          <p:grpSpPr>
            <a:xfrm>
              <a:off x="7155000" y="2673360"/>
              <a:ext cx="696600" cy="317520"/>
              <a:chOff x="7155000" y="2673360"/>
              <a:chExt cx="696600" cy="317520"/>
            </a:xfrm>
          </p:grpSpPr>
          <p:sp>
            <p:nvSpPr>
              <p:cNvPr id="318" name=""/>
              <p:cNvSpPr/>
              <p:nvPr/>
            </p:nvSpPr>
            <p:spPr>
              <a:xfrm>
                <a:off x="7155000" y="2673360"/>
                <a:ext cx="696600" cy="3175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155000" y="2673360"/>
                <a:ext cx="696600" cy="3175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7288200" y="2682720"/>
              <a:ext cx="48420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Grootschali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97280" y="2878200"/>
              <a:ext cx="23724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85320" y="2781360"/>
              <a:ext cx="47628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topografisc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641600" y="312408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66920" y="354816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43840" y="201456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72080" y="1762200"/>
            <a:ext cx="9684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"/>
          <p:cNvCxnSpPr>
            <a:stCxn id="170" idx="4"/>
            <a:endCxn id="169" idx="0"/>
          </p:cNvCxnSpPr>
          <p:nvPr/>
        </p:nvCxnSpPr>
        <p:spPr>
          <a:xfrm flipV="1" rot="10800000">
            <a:off x="6143040" y="4789080"/>
            <a:ext cx="1080" cy="51840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5064120" y="554688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97120" y="3151080"/>
            <a:ext cx="71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191280" y="4665600"/>
            <a:ext cx="114840" cy="114840"/>
            <a:chOff x="6191280" y="4665600"/>
            <a:chExt cx="114840" cy="114840"/>
          </a:xfrm>
        </p:grpSpPr>
        <p:sp>
          <p:nvSpPr>
            <p:cNvPr id="326" name=""/>
            <p:cNvSpPr/>
            <p:nvPr/>
          </p:nvSpPr>
          <p:spPr>
            <a:xfrm>
              <a:off x="6191280" y="466560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21520" y="466560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6239160" y="466524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570800" y="4986360"/>
            <a:ext cx="114840" cy="114840"/>
            <a:chOff x="7570800" y="4986360"/>
            <a:chExt cx="114840" cy="114840"/>
          </a:xfrm>
        </p:grpSpPr>
        <p:sp>
          <p:nvSpPr>
            <p:cNvPr id="330" name=""/>
            <p:cNvSpPr/>
            <p:nvPr/>
          </p:nvSpPr>
          <p:spPr>
            <a:xfrm>
              <a:off x="7570800" y="498636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01040" y="498636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6200000">
              <a:off x="7618680" y="498600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181560" y="5500800"/>
            <a:ext cx="114840" cy="114840"/>
            <a:chOff x="6181560" y="5500800"/>
            <a:chExt cx="114840" cy="114840"/>
          </a:xfrm>
        </p:grpSpPr>
        <p:sp>
          <p:nvSpPr>
            <p:cNvPr id="334" name=""/>
            <p:cNvSpPr/>
            <p:nvPr/>
          </p:nvSpPr>
          <p:spPr>
            <a:xfrm>
              <a:off x="6181560" y="550080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11800" y="550080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6200000">
              <a:off x="6229440" y="550044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879800" y="1725480"/>
            <a:ext cx="744840" cy="176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553000" y="5500800"/>
            <a:ext cx="114840" cy="114840"/>
            <a:chOff x="5553000" y="5500800"/>
            <a:chExt cx="114840" cy="114840"/>
          </a:xfrm>
        </p:grpSpPr>
        <p:sp>
          <p:nvSpPr>
            <p:cNvPr id="339" name=""/>
            <p:cNvSpPr/>
            <p:nvPr/>
          </p:nvSpPr>
          <p:spPr>
            <a:xfrm>
              <a:off x="5553000" y="550080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83240" y="550080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5600880" y="550044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500800" y="1957320"/>
            <a:ext cx="114840" cy="114840"/>
            <a:chOff x="5500800" y="1957320"/>
            <a:chExt cx="114840" cy="114840"/>
          </a:xfrm>
        </p:grpSpPr>
        <p:sp>
          <p:nvSpPr>
            <p:cNvPr id="343" name=""/>
            <p:cNvSpPr/>
            <p:nvPr/>
          </p:nvSpPr>
          <p:spPr>
            <a:xfrm>
              <a:off x="5500800" y="195732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31040" y="195732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5548680" y="195696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7724880" y="3990960"/>
            <a:ext cx="114840" cy="114840"/>
            <a:chOff x="7724880" y="3990960"/>
            <a:chExt cx="114840" cy="114840"/>
          </a:xfrm>
        </p:grpSpPr>
        <p:sp>
          <p:nvSpPr>
            <p:cNvPr id="347" name=""/>
            <p:cNvSpPr/>
            <p:nvPr/>
          </p:nvSpPr>
          <p:spPr>
            <a:xfrm>
              <a:off x="7724880" y="399096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55120" y="399096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6200000">
              <a:off x="7772760" y="399060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719840" y="3129120"/>
            <a:ext cx="114840" cy="114480"/>
            <a:chOff x="7719840" y="3129120"/>
            <a:chExt cx="114840" cy="114480"/>
          </a:xfrm>
        </p:grpSpPr>
        <p:sp>
          <p:nvSpPr>
            <p:cNvPr id="351" name=""/>
            <p:cNvSpPr/>
            <p:nvPr/>
          </p:nvSpPr>
          <p:spPr>
            <a:xfrm>
              <a:off x="7719840" y="3129120"/>
              <a:ext cx="114840" cy="11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50080" y="3129120"/>
              <a:ext cx="23400" cy="11448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200000">
              <a:off x="7767720" y="312840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719840" y="2859120"/>
            <a:ext cx="114840" cy="114840"/>
            <a:chOff x="7719840" y="2859120"/>
            <a:chExt cx="114840" cy="114840"/>
          </a:xfrm>
        </p:grpSpPr>
        <p:sp>
          <p:nvSpPr>
            <p:cNvPr id="355" name=""/>
            <p:cNvSpPr/>
            <p:nvPr/>
          </p:nvSpPr>
          <p:spPr>
            <a:xfrm>
              <a:off x="7719840" y="285912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50080" y="285912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7767720" y="285876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7704000" y="1996920"/>
            <a:ext cx="114840" cy="114840"/>
            <a:chOff x="7704000" y="1996920"/>
            <a:chExt cx="114840" cy="114840"/>
          </a:xfrm>
        </p:grpSpPr>
        <p:sp>
          <p:nvSpPr>
            <p:cNvPr id="359" name=""/>
            <p:cNvSpPr/>
            <p:nvPr/>
          </p:nvSpPr>
          <p:spPr>
            <a:xfrm>
              <a:off x="7704000" y="199692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34240" y="199692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6200000">
              <a:off x="7751880" y="199656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670120" y="4110120"/>
            <a:ext cx="747720" cy="396720"/>
            <a:chOff x="2670120" y="4110120"/>
            <a:chExt cx="747720" cy="396720"/>
          </a:xfrm>
        </p:grpSpPr>
        <p:grpSp>
          <p:nvGrpSpPr>
            <p:cNvPr id="363" name=""/>
            <p:cNvGrpSpPr/>
            <p:nvPr/>
          </p:nvGrpSpPr>
          <p:grpSpPr>
            <a:xfrm>
              <a:off x="2670120" y="4110120"/>
              <a:ext cx="747720" cy="396720"/>
              <a:chOff x="2670120" y="4110120"/>
              <a:chExt cx="747720" cy="396720"/>
            </a:xfrm>
          </p:grpSpPr>
          <p:sp>
            <p:nvSpPr>
              <p:cNvPr id="364" name=""/>
              <p:cNvSpPr/>
              <p:nvPr/>
            </p:nvSpPr>
            <p:spPr>
              <a:xfrm>
                <a:off x="2670120" y="4110120"/>
                <a:ext cx="747720" cy="3967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70120" y="4110120"/>
                <a:ext cx="747720" cy="3967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2726280" y="4306680"/>
              <a:ext cx="63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Maatschappelijk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87560" y="4379760"/>
              <a:ext cx="313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activitei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94680" y="4154400"/>
              <a:ext cx="498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Ondernem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7143840" y="19191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24760" y="592308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57480" y="180180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57480" y="158580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668680" y="1806480"/>
            <a:ext cx="69696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32480" y="1967040"/>
            <a:ext cx="29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verba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43640" y="1871640"/>
            <a:ext cx="23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Diens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97280" y="1397160"/>
            <a:ext cx="503280" cy="260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03840" y="1519200"/>
            <a:ext cx="33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13560" y="1424160"/>
            <a:ext cx="189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L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25800" y="411624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25800" y="35193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4"/>
            <a:endCxn id="376" idx="0"/>
          </p:cNvCxnSpPr>
          <p:nvPr/>
        </p:nvCxnSpPr>
        <p:spPr>
          <a:xfrm flipV="1" rot="10800000">
            <a:off x="3061440" y="3590640"/>
            <a:ext cx="1080" cy="525960"/>
          </a:xfrm>
          <a:prstGeom prst="bentConnector2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2698920" y="41115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98920" y="35193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97960" y="1771560"/>
            <a:ext cx="28152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Perce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19400" y="1949400"/>
            <a:ext cx="57384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Leidingnetwer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504040" y="1779480"/>
            <a:ext cx="114480" cy="114840"/>
            <a:chOff x="5504040" y="1779480"/>
            <a:chExt cx="114480" cy="114840"/>
          </a:xfrm>
        </p:grpSpPr>
        <p:sp>
          <p:nvSpPr>
            <p:cNvPr id="382" name=""/>
            <p:cNvSpPr/>
            <p:nvPr/>
          </p:nvSpPr>
          <p:spPr>
            <a:xfrm>
              <a:off x="5504040" y="1779480"/>
              <a:ext cx="11448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34280" y="177948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5551560" y="1779120"/>
              <a:ext cx="19080" cy="11448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726000" y="2817720"/>
            <a:ext cx="2112840" cy="873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81360" y="2784600"/>
            <a:ext cx="2098800" cy="871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85120" y="2798640"/>
            <a:ext cx="29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O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80120" y="33940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10040" y="3149640"/>
            <a:ext cx="69696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11840" y="3154320"/>
            <a:ext cx="696960" cy="31752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42160" y="3270240"/>
            <a:ext cx="43668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WOZ obj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"/>
          <p:cNvCxnSpPr>
            <a:stCxn id="393" idx="0"/>
          </p:cNvCxnSpPr>
          <p:nvPr/>
        </p:nvCxnSpPr>
        <p:spPr>
          <a:xfrm flipV="1" rot="16200000">
            <a:off x="3322440" y="2606040"/>
            <a:ext cx="707040" cy="389520"/>
          </a:xfrm>
          <a:prstGeom prst="bentConnector3">
            <a:avLst>
              <a:gd name="adj1" fmla="val 100407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cxnSp>
        <p:nvCxnSpPr>
          <p:cNvPr id="394" name=""/>
          <p:cNvCxnSpPr>
            <a:stCxn id="390" idx="3"/>
            <a:endCxn id="152" idx="1"/>
          </p:cNvCxnSpPr>
          <p:nvPr/>
        </p:nvCxnSpPr>
        <p:spPr>
          <a:xfrm>
            <a:off x="5608800" y="3312720"/>
            <a:ext cx="1513440" cy="3180600"/>
          </a:xfrm>
          <a:prstGeom prst="bentConnector3">
            <a:avLst>
              <a:gd name="adj1" fmla="val 49940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5851080" y="3336840"/>
            <a:ext cx="107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"/>
          <p:cNvCxnSpPr>
            <a:stCxn id="397" idx="4"/>
            <a:endCxn id="159" idx="2"/>
          </p:cNvCxnSpPr>
          <p:nvPr/>
        </p:nvCxnSpPr>
        <p:spPr>
          <a:xfrm flipH="1" rot="16200000">
            <a:off x="3952800" y="4471560"/>
            <a:ext cx="2115360" cy="108720"/>
          </a:xfrm>
          <a:prstGeom prst="bentConnector2">
            <a:avLst/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398" name=""/>
          <p:cNvSpPr/>
          <p:nvPr/>
        </p:nvSpPr>
        <p:spPr>
          <a:xfrm>
            <a:off x="5014440" y="371160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911840" y="336708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endCxn id="400" idx="0"/>
          </p:cNvCxnSpPr>
          <p:nvPr/>
        </p:nvCxnSpPr>
        <p:spPr>
          <a:xfrm>
            <a:off x="2652480" y="2565000"/>
            <a:ext cx="1307160" cy="586440"/>
          </a:xfrm>
          <a:prstGeom prst="bentConnector2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5079960" y="3151080"/>
            <a:ext cx="88920" cy="10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72000" y="317196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>
            <a:stCxn id="303" idx="2"/>
            <a:endCxn id="390" idx="0"/>
          </p:cNvCxnSpPr>
          <p:nvPr/>
        </p:nvCxnSpPr>
        <p:spPr>
          <a:xfrm flipV="1" rot="10800000">
            <a:off x="5260320" y="2184120"/>
            <a:ext cx="1080" cy="970560"/>
          </a:xfrm>
          <a:prstGeom prst="bentConnector2">
            <a:avLst/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94520" y="2698920"/>
            <a:ext cx="133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OZ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>
            <a:stCxn id="406" idx="6"/>
            <a:endCxn id="407" idx="3"/>
          </p:cNvCxnSpPr>
          <p:nvPr/>
        </p:nvCxnSpPr>
        <p:spPr>
          <a:xfrm>
            <a:off x="4311720" y="2081160"/>
            <a:ext cx="2160" cy="1231200"/>
          </a:xfrm>
          <a:prstGeom prst="bentConnector3">
            <a:avLst>
              <a:gd name="adj1" fmla="val 14500000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5348160" y="336708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22800" y="203040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403880" y="331776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87680" y="322272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"/>
          <p:cNvCxnSpPr>
            <a:stCxn id="408" idx="4"/>
            <a:endCxn id="268" idx="0"/>
          </p:cNvCxnSpPr>
          <p:nvPr/>
        </p:nvCxnSpPr>
        <p:spPr>
          <a:xfrm flipH="1" rot="16200000">
            <a:off x="5206320" y="3654720"/>
            <a:ext cx="1008720" cy="635760"/>
          </a:xfrm>
          <a:prstGeom prst="bentConnector3">
            <a:avLst>
              <a:gd name="adj1" fmla="val 49910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412" name=""/>
          <p:cNvSpPr/>
          <p:nvPr/>
        </p:nvSpPr>
        <p:spPr>
          <a:xfrm>
            <a:off x="5432040" y="3713040"/>
            <a:ext cx="13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A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473800" y="3341520"/>
            <a:ext cx="114840" cy="114840"/>
            <a:chOff x="5473800" y="3341520"/>
            <a:chExt cx="114840" cy="114840"/>
          </a:xfrm>
        </p:grpSpPr>
        <p:sp>
          <p:nvSpPr>
            <p:cNvPr id="414" name=""/>
            <p:cNvSpPr/>
            <p:nvPr/>
          </p:nvSpPr>
          <p:spPr>
            <a:xfrm>
              <a:off x="5473800" y="3341520"/>
              <a:ext cx="114840" cy="11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04040" y="3341520"/>
              <a:ext cx="23400" cy="1148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3" y="0"/>
                  </a:moveTo>
                  <a:cubicBezTo>
                    <a:pt x="3" y="2"/>
                    <a:pt x="0" y="4"/>
                    <a:pt x="0" y="10"/>
                  </a:cubicBezTo>
                  <a:cubicBezTo>
                    <a:pt x="0" y="16"/>
                    <a:pt x="3" y="17"/>
                    <a:pt x="4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5521680" y="3341160"/>
              <a:ext cx="19080" cy="114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3" y="18"/>
                    <a:pt x="4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4238640" y="33228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94120" y="33894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27520" y="33894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735360" y="3149640"/>
            <a:ext cx="577800" cy="31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35360" y="3152880"/>
            <a:ext cx="577800" cy="317520"/>
          </a:xfrm>
          <a:prstGeom prst="roundRect">
            <a:avLst>
              <a:gd name="adj" fmla="val 16667"/>
            </a:avLst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93040" y="3267000"/>
            <a:ext cx="266040" cy="10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Bela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94120" y="3208320"/>
            <a:ext cx="360" cy="277920"/>
          </a:xfrm>
          <a:custGeom>
            <a:avLst/>
            <a:gdLst/>
            <a:ahLst/>
            <a:rect l="l" t="t" r="r" b="b"/>
            <a:pathLst>
              <a:path w="21600" h="8348400">
                <a:moveTo>
                  <a:pt x="3600" y="0"/>
                </a:moveTo>
                <a:arcTo wR="3600" hR="3600" stAng="16200000" swAng="-5400000"/>
                <a:lnTo>
                  <a:pt x="0" y="8344800"/>
                </a:lnTo>
                <a:arcTo wR="3600" hR="3600" stAng="10800000" swAng="-5400000"/>
                <a:lnTo>
                  <a:pt x="18000" y="8348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216320" y="337032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"/>
          <p:cNvCxnSpPr>
            <a:stCxn id="425" idx="6"/>
            <a:endCxn id="397" idx="2"/>
          </p:cNvCxnSpPr>
          <p:nvPr/>
        </p:nvCxnSpPr>
        <p:spPr>
          <a:xfrm>
            <a:off x="4311360" y="3417480"/>
            <a:ext cx="600840" cy="1080"/>
          </a:xfrm>
          <a:prstGeom prst="bentConnector2">
            <a:avLst/>
          </a:prstGeom>
          <a:ln w="19080">
            <a:solidFill>
              <a:srgbClr val="0066cc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4222800" y="336708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14640" y="3151080"/>
            <a:ext cx="88920" cy="10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25720" y="315432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16440" y="201780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25720" y="2021040"/>
            <a:ext cx="88920" cy="10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88080" y="2684520"/>
            <a:ext cx="10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16280" y="2678040"/>
            <a:ext cx="131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" spc="-1" strike="noStrike">
                <a:solidFill>
                  <a:srgbClr val="000000"/>
                </a:solidFill>
                <a:latin typeface="Arial"/>
              </a:rPr>
              <a:t>BS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29520" y="52322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"/>
          <p:cNvCxnSpPr/>
          <p:nvPr/>
        </p:nvCxnSpPr>
        <p:spPr>
          <a:xfrm flipH="1" flipV="1" rot="5400000">
            <a:off x="2826000" y="2021040"/>
            <a:ext cx="1032480" cy="1227960"/>
          </a:xfrm>
          <a:prstGeom prst="bentConnector3">
            <a:avLst>
              <a:gd name="adj1" fmla="val 56888"/>
            </a:avLst>
          </a:prstGeom>
          <a:ln w="19080">
            <a:solidFill>
              <a:srgbClr val="0066cc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7" idx="1"/>
            <a:endCxn id="365" idx="3"/>
          </p:cNvCxnSpPr>
          <p:nvPr/>
        </p:nvCxnSpPr>
        <p:spPr>
          <a:xfrm flipV="1" rot="10800000">
            <a:off x="3417840" y="3310560"/>
            <a:ext cx="317880" cy="997560"/>
          </a:xfrm>
          <a:prstGeom prst="bentConnector3">
            <a:avLst>
              <a:gd name="adj1" fmla="val 50000"/>
            </a:avLst>
          </a:prstGeom>
          <a:ln w="19080">
            <a:solidFill>
              <a:srgbClr val="0066cc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7B15-59B9-422F-864A-5F2AD42A1D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5280" y="765000"/>
            <a:ext cx="6621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4b0055"/>
                </a:solidFill>
                <a:latin typeface="Arial"/>
                <a:ea typeface="Arial"/>
              </a:rPr>
              <a:t>Stelsel van gemeentelijke basisgegev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2181240" y="1557360"/>
            <a:ext cx="4578480" cy="530064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0" y="1125360"/>
            <a:ext cx="9144000" cy="5732640"/>
            <a:chOff x="0" y="1125360"/>
            <a:chExt cx="9144000" cy="5732640"/>
          </a:xfrm>
        </p:grpSpPr>
        <p:sp>
          <p:nvSpPr>
            <p:cNvPr id="433" name=""/>
            <p:cNvSpPr/>
            <p:nvPr/>
          </p:nvSpPr>
          <p:spPr>
            <a:xfrm>
              <a:off x="0" y="1125360"/>
              <a:ext cx="9144000" cy="573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4" name=""/>
            <p:cNvGraphicFramePr/>
            <p:nvPr/>
          </p:nvGraphicFramePr>
          <p:xfrm>
            <a:off x="468360" y="1197000"/>
            <a:ext cx="7840440" cy="5661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8360" y="1197000"/>
                      <a:ext cx="7840440" cy="56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8862-DC97-4A80-BDD2-48DFA29FE6E5}" type="slidenum">
              <a:t>8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254160" y="1117440"/>
            <a:ext cx="7910280" cy="5664240"/>
            <a:chOff x="254160" y="1117440"/>
            <a:chExt cx="7910280" cy="5664240"/>
          </a:xfrm>
        </p:grpSpPr>
        <p:sp>
          <p:nvSpPr>
            <p:cNvPr id="437" name=""/>
            <p:cNvSpPr/>
            <p:nvPr/>
          </p:nvSpPr>
          <p:spPr>
            <a:xfrm>
              <a:off x="984240" y="20574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99080" y="190980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1960" y="1338120"/>
              <a:ext cx="970200" cy="97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311640" y="424800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98920" y="3754440"/>
              <a:ext cx="71280" cy="7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03240" y="3713040"/>
              <a:ext cx="118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Kv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1360" y="2629080"/>
              <a:ext cx="2873160" cy="1185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2640" y="2754360"/>
              <a:ext cx="1727280" cy="9349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51280" y="1117440"/>
              <a:ext cx="3413160" cy="4759560"/>
            </a:xfrm>
            <a:custGeom>
              <a:avLst/>
              <a:gdLst>
                <a:gd name="textAreaLeft" fmla="*/ 166320 w 3413160"/>
                <a:gd name="textAreaRight" fmla="*/ 3246840 w 3413160"/>
                <a:gd name="textAreaTop" fmla="*/ 166320 h 4759560"/>
                <a:gd name="textAreaBottom" fmla="*/ 4593240 h 4759560"/>
              </a:gdLst>
              <a:ahLst/>
              <a:rect l="textAreaLeft" t="textAreaTop" r="textAreaRight" b="textAreaBottom"/>
              <a:pathLst>
                <a:path w="21600" h="30120">
                  <a:moveTo>
                    <a:pt x="3600" y="0"/>
                  </a:moveTo>
                  <a:arcTo wR="3600" hR="3600" stAng="16200000" swAng="-5400000"/>
                  <a:lnTo>
                    <a:pt x="0" y="26520"/>
                  </a:lnTo>
                  <a:arcTo wR="3600" hR="3600" stAng="10800000" swAng="-5400000"/>
                  <a:lnTo>
                    <a:pt x="18000" y="301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43400" y="1216080"/>
              <a:ext cx="614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Ruimtelijk 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43760" y="4419720"/>
              <a:ext cx="974880" cy="2361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12080" y="4397400"/>
              <a:ext cx="974520" cy="2359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2080" y="4395960"/>
              <a:ext cx="974520" cy="23605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02440" y="444816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2840" y="2638440"/>
              <a:ext cx="30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Pers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47800" y="2894040"/>
              <a:ext cx="735120" cy="831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19360" y="2874960"/>
              <a:ext cx="734760" cy="8319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19360" y="2874960"/>
              <a:ext cx="734760" cy="831960"/>
            </a:xfrm>
            <a:prstGeom prst="rect">
              <a:avLst/>
            </a:prstGeom>
            <a:solidFill>
              <a:srgbClr val="99ff66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99800" y="287820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GB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46360" y="2900520"/>
              <a:ext cx="882720" cy="243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06760" y="2874960"/>
              <a:ext cx="882720" cy="2440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06760" y="2874960"/>
              <a:ext cx="882720" cy="24400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19160" y="287820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NH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29200" y="4421160"/>
              <a:ext cx="1484280" cy="1468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97520" y="4397400"/>
              <a:ext cx="1482480" cy="146844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97520" y="4397400"/>
              <a:ext cx="1482480" cy="14684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73720" y="452448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BG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7120080" y="4797360"/>
              <a:ext cx="576000" cy="317520"/>
              <a:chOff x="7120080" y="4797360"/>
              <a:chExt cx="576000" cy="317520"/>
            </a:xfrm>
          </p:grpSpPr>
          <p:sp>
            <p:nvSpPr>
              <p:cNvPr id="465" name=""/>
              <p:cNvSpPr/>
              <p:nvPr/>
            </p:nvSpPr>
            <p:spPr>
              <a:xfrm>
                <a:off x="7120080" y="4797360"/>
                <a:ext cx="576000" cy="3175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20080" y="4797360"/>
                <a:ext cx="576000" cy="3175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7184880" y="4892760"/>
              <a:ext cx="43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Woonplaa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18080" y="1344600"/>
              <a:ext cx="2127240" cy="959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84600" y="1311120"/>
              <a:ext cx="2111400" cy="966960"/>
            </a:xfrm>
            <a:prstGeom prst="rect">
              <a:avLst/>
            </a:prstGeom>
            <a:solidFill>
              <a:srgbClr val="66ff66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91080" y="130176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B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27920" y="2459160"/>
              <a:ext cx="969840" cy="873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96240" y="2432160"/>
              <a:ext cx="969840" cy="871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996240" y="2432160"/>
              <a:ext cx="969840" cy="8715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307280" y="25113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GBK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2080" y="1335240"/>
              <a:ext cx="969840" cy="968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980400" y="1306440"/>
              <a:ext cx="969840" cy="968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80400" y="1306440"/>
              <a:ext cx="969840" cy="9684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93000" y="1317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B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39160" y="1809720"/>
              <a:ext cx="69660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39160" y="1809720"/>
              <a:ext cx="69660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44280" y="1847880"/>
              <a:ext cx="46260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Kleinschali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43920" y="1974960"/>
              <a:ext cx="41256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Geo-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64040" y="5956200"/>
              <a:ext cx="10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IN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4" name=""/>
            <p:cNvCxnSpPr>
              <a:stCxn id="485" idx="2"/>
              <a:endCxn id="486" idx="0"/>
            </p:cNvCxnSpPr>
            <p:nvPr/>
          </p:nvCxnSpPr>
          <p:spPr>
            <a:xfrm>
              <a:off x="7405200" y="6194160"/>
              <a:ext cx="2520" cy="130680"/>
            </a:xfrm>
            <a:prstGeom prst="straightConnector1">
              <a:avLst/>
            </a:prstGeom>
            <a:ln w="19080">
              <a:solidFill>
                <a:srgbClr val="0066cc"/>
              </a:solidFill>
              <a:miter/>
            </a:ln>
          </p:spPr>
        </p:cxnSp>
        <p:cxnSp>
          <p:nvCxnSpPr>
            <p:cNvPr id="487" name=""/>
            <p:cNvCxnSpPr>
              <a:stCxn id="466" idx="2"/>
              <a:endCxn id="485" idx="0"/>
            </p:cNvCxnSpPr>
            <p:nvPr/>
          </p:nvCxnSpPr>
          <p:spPr>
            <a:xfrm flipH="1">
              <a:off x="7404840" y="5114520"/>
              <a:ext cx="3960" cy="762840"/>
            </a:xfrm>
            <a:prstGeom prst="straightConnector1">
              <a:avLst/>
            </a:prstGeom>
            <a:ln w="19080">
              <a:solidFill>
                <a:srgbClr val="0066cc"/>
              </a:solidFill>
              <a:miter/>
            </a:ln>
          </p:spPr>
        </p:cxnSp>
        <p:cxnSp>
          <p:nvCxnSpPr>
            <p:cNvPr id="488" name=""/>
            <p:cNvCxnSpPr>
              <a:stCxn id="466" idx="3"/>
              <a:endCxn id="486" idx="3"/>
            </p:cNvCxnSpPr>
            <p:nvPr/>
          </p:nvCxnSpPr>
          <p:spPr>
            <a:xfrm flipH="1">
              <a:off x="7690680" y="4955760"/>
              <a:ext cx="5400" cy="1537560"/>
            </a:xfrm>
            <a:prstGeom prst="bentConnector3">
              <a:avLst>
                <a:gd name="adj1" fmla="val -4800000"/>
              </a:avLst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489" name=""/>
            <p:cNvSpPr/>
            <p:nvPr/>
          </p:nvSpPr>
          <p:spPr>
            <a:xfrm>
              <a:off x="5824440" y="57070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34120" y="641664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92" idx="4"/>
              <a:endCxn id="493" idx="2"/>
            </p:cNvCxnSpPr>
            <p:nvPr/>
          </p:nvCxnSpPr>
          <p:spPr>
            <a:xfrm flipH="1" rot="16200000">
              <a:off x="3841560" y="4361400"/>
              <a:ext cx="442080" cy="200268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3025800" y="50706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84120" y="5359320"/>
              <a:ext cx="13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A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34640" y="3735360"/>
              <a:ext cx="13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A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025800" y="474804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7" name=""/>
            <p:cNvCxnSpPr>
              <a:stCxn id="498" idx="4"/>
              <a:endCxn id="496" idx="0"/>
            </p:cNvCxnSpPr>
            <p:nvPr/>
          </p:nvCxnSpPr>
          <p:spPr>
            <a:xfrm flipV="1" rot="10800000">
              <a:off x="3061440" y="4501800"/>
              <a:ext cx="1080" cy="24660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498" name=""/>
            <p:cNvSpPr/>
            <p:nvPr/>
          </p:nvSpPr>
          <p:spPr>
            <a:xfrm>
              <a:off x="3025800" y="44308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45120" y="19828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19200" y="4203720"/>
              <a:ext cx="13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BS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94200" y="2309760"/>
              <a:ext cx="10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22760" y="2303640"/>
              <a:ext cx="13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BS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07040" y="530712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107040" y="471816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90680" y="1976400"/>
              <a:ext cx="13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A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95000" y="1703520"/>
              <a:ext cx="115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IO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60520" y="1344600"/>
              <a:ext cx="969840" cy="965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28840" y="1306440"/>
              <a:ext cx="969840" cy="968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28840" y="1306440"/>
              <a:ext cx="969840" cy="9684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41440" y="1314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BR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36800" y="20494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54160" y="1306440"/>
              <a:ext cx="969840" cy="961920"/>
            </a:xfrm>
            <a:prstGeom prst="rect">
              <a:avLst/>
            </a:prstGeom>
            <a:solidFill>
              <a:srgbClr val="ffcc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3520" y="1314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82720" y="205416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41480" y="2335320"/>
              <a:ext cx="13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BS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7680" y="2341440"/>
              <a:ext cx="10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85880" y="1341360"/>
              <a:ext cx="970200" cy="968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54200" y="1403280"/>
              <a:ext cx="970200" cy="871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54200" y="1306440"/>
              <a:ext cx="970200" cy="968400"/>
            </a:xfrm>
            <a:prstGeom prst="rect">
              <a:avLst/>
            </a:prstGeom>
            <a:solidFill>
              <a:srgbClr val="ffcc66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67160" y="131436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BLA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20494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45160" y="2316240"/>
              <a:ext cx="10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84320" y="20494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689200" y="2316240"/>
              <a:ext cx="13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BS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92240" y="2306520"/>
              <a:ext cx="13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BS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07920" y="2894040"/>
              <a:ext cx="735120" cy="831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87400" y="2879640"/>
              <a:ext cx="735120" cy="8319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85960" y="2874960"/>
              <a:ext cx="734760" cy="8319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16360" y="2870280"/>
              <a:ext cx="234360" cy="168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RN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939960" y="3152880"/>
              <a:ext cx="634680" cy="436320"/>
              <a:chOff x="939960" y="3152880"/>
              <a:chExt cx="634680" cy="43632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939960" y="3152880"/>
                <a:ext cx="634680" cy="436320"/>
                <a:chOff x="939960" y="3152880"/>
                <a:chExt cx="634680" cy="4363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939960" y="3152880"/>
                  <a:ext cx="634680" cy="436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939960" y="3152880"/>
                  <a:ext cx="634680" cy="43632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1172160" y="3240000"/>
                <a:ext cx="176040" cy="101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Niet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064160" y="3367080"/>
                <a:ext cx="407880" cy="101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Ingezeten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7040520" y="3436920"/>
              <a:ext cx="969840" cy="873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08840" y="3409920"/>
              <a:ext cx="969840" cy="871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08840" y="3409920"/>
              <a:ext cx="969840" cy="8715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9880" y="3489480"/>
              <a:ext cx="31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DI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7167600" y="3816360"/>
              <a:ext cx="696960" cy="317520"/>
              <a:chOff x="7167600" y="3816360"/>
              <a:chExt cx="696960" cy="317520"/>
            </a:xfrm>
          </p:grpSpPr>
          <p:sp>
            <p:nvSpPr>
              <p:cNvPr id="541" name=""/>
              <p:cNvSpPr/>
              <p:nvPr/>
            </p:nvSpPr>
            <p:spPr>
              <a:xfrm>
                <a:off x="7167600" y="3816360"/>
                <a:ext cx="696960" cy="3175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167600" y="3816360"/>
                <a:ext cx="696960" cy="3175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7267680" y="3867120"/>
              <a:ext cx="52992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Ondergrond”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412920" y="1805040"/>
              <a:ext cx="696600" cy="323640"/>
              <a:chOff x="412920" y="1805040"/>
              <a:chExt cx="696600" cy="32364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412920" y="1805040"/>
                <a:ext cx="696600" cy="323640"/>
                <a:chOff x="412920" y="1805040"/>
                <a:chExt cx="696600" cy="32364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412920" y="1805040"/>
                  <a:ext cx="696600" cy="323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2920" y="1805040"/>
                  <a:ext cx="696600" cy="32364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495720" y="1833480"/>
                <a:ext cx="493200" cy="101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Gekentekend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96080" y="1958760"/>
                <a:ext cx="321120" cy="101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Voertui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1784520" y="3152880"/>
              <a:ext cx="634680" cy="436320"/>
              <a:chOff x="1784520" y="3152880"/>
              <a:chExt cx="634680" cy="436320"/>
            </a:xfrm>
          </p:grpSpPr>
          <p:grpSp>
            <p:nvGrpSpPr>
              <p:cNvPr id="551" name=""/>
              <p:cNvGrpSpPr/>
              <p:nvPr/>
            </p:nvGrpSpPr>
            <p:grpSpPr>
              <a:xfrm>
                <a:off x="1784520" y="3152880"/>
                <a:ext cx="634680" cy="436320"/>
                <a:chOff x="1784520" y="3152880"/>
                <a:chExt cx="634680" cy="4363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1784520" y="3152880"/>
                  <a:ext cx="634680" cy="436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784520" y="3152880"/>
                  <a:ext cx="634680" cy="43632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1905480" y="3244680"/>
                <a:ext cx="398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Ingezeten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2670120" y="3152880"/>
              <a:ext cx="747720" cy="436320"/>
              <a:chOff x="2670120" y="3152880"/>
              <a:chExt cx="747720" cy="436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2670120" y="3152880"/>
                <a:ext cx="747720" cy="436320"/>
                <a:chOff x="2670120" y="3152880"/>
                <a:chExt cx="747720" cy="4363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2670120" y="3152880"/>
                  <a:ext cx="747720" cy="436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670120" y="3152880"/>
                  <a:ext cx="747720" cy="43632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2878200" y="3181320"/>
                <a:ext cx="354240" cy="345240"/>
                <a:chOff x="2878200" y="3181320"/>
                <a:chExt cx="354240" cy="34524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2989080" y="3181320"/>
                  <a:ext cx="14544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600" spc="-1" strike="noStrike">
                      <a:solidFill>
                        <a:srgbClr val="000000"/>
                      </a:solidFill>
                      <a:latin typeface="Arial"/>
                    </a:rPr>
                    <a:t>Niet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878200" y="3308040"/>
                  <a:ext cx="35424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600" spc="-1" strike="noStrike">
                      <a:solidFill>
                        <a:srgbClr val="000000"/>
                      </a:solidFill>
                      <a:latin typeface="Arial"/>
                    </a:rPr>
                    <a:t>Natuurlijk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927160" y="3434760"/>
                  <a:ext cx="30384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600" spc="-1" strike="noStrike">
                      <a:solidFill>
                        <a:srgbClr val="000000"/>
                      </a:solidFill>
                      <a:latin typeface="Arial"/>
                    </a:rPr>
                    <a:t>persoon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"/>
            <p:cNvGrpSpPr/>
            <p:nvPr/>
          </p:nvGrpSpPr>
          <p:grpSpPr>
            <a:xfrm>
              <a:off x="2670120" y="4748040"/>
              <a:ext cx="765360" cy="397080"/>
              <a:chOff x="2670120" y="4748040"/>
              <a:chExt cx="765360" cy="39708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2670120" y="4748040"/>
                <a:ext cx="765360" cy="397080"/>
                <a:chOff x="2670120" y="4748040"/>
                <a:chExt cx="765360" cy="39708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2670120" y="4748040"/>
                  <a:ext cx="765360" cy="397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670120" y="4748040"/>
                  <a:ext cx="765360" cy="39708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2907360" y="4895640"/>
                <a:ext cx="346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Vestigin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1587600" y="1809720"/>
              <a:ext cx="69696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587600" y="1809720"/>
              <a:ext cx="696960" cy="317520"/>
              <a:chOff x="1587600" y="1809720"/>
              <a:chExt cx="696960" cy="317520"/>
            </a:xfrm>
          </p:grpSpPr>
          <p:sp>
            <p:nvSpPr>
              <p:cNvPr id="570" name=""/>
              <p:cNvSpPr/>
              <p:nvPr/>
            </p:nvSpPr>
            <p:spPr>
              <a:xfrm>
                <a:off x="1587600" y="1809720"/>
                <a:ext cx="696960" cy="31752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774800" y="1917720"/>
                <a:ext cx="325440" cy="101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Inkome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2668680" y="1803240"/>
              <a:ext cx="69696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7120080" y="5877000"/>
              <a:ext cx="571320" cy="317160"/>
              <a:chOff x="7120080" y="5877000"/>
              <a:chExt cx="571320" cy="31716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7120080" y="5877000"/>
                <a:ext cx="571320" cy="317160"/>
                <a:chOff x="7120080" y="5877000"/>
                <a:chExt cx="571320" cy="31716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7120080" y="5877000"/>
                  <a:ext cx="571320" cy="317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120080" y="5877000"/>
                  <a:ext cx="571320" cy="31716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7243920" y="5918040"/>
                <a:ext cx="3589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Openbar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03680" y="6045120"/>
                <a:ext cx="234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ruimt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7121520" y="6324480"/>
              <a:ext cx="569880" cy="336600"/>
              <a:chOff x="7121520" y="6324480"/>
              <a:chExt cx="569880" cy="3366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7121520" y="6324480"/>
                <a:ext cx="569880" cy="336600"/>
                <a:chOff x="7121520" y="6324480"/>
                <a:chExt cx="569880" cy="33660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7121520" y="6324480"/>
                  <a:ext cx="569880" cy="336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121520" y="6324480"/>
                  <a:ext cx="569880" cy="33660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7251120" y="6395040"/>
                <a:ext cx="334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Nummer-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31680" y="6493320"/>
                <a:ext cx="4122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aanduidin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5054760" y="5230800"/>
              <a:ext cx="1368360" cy="555480"/>
              <a:chOff x="5054760" y="5230800"/>
              <a:chExt cx="1368360" cy="55548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5054760" y="5230800"/>
                <a:ext cx="1368360" cy="555480"/>
                <a:chOff x="5054760" y="5230800"/>
                <a:chExt cx="1368360" cy="5554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5054760" y="5230800"/>
                  <a:ext cx="1368360" cy="555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054760" y="5230800"/>
                  <a:ext cx="1368360" cy="55548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"/>
              <p:cNvSpPr/>
              <p:nvPr/>
            </p:nvSpPr>
            <p:spPr>
              <a:xfrm>
                <a:off x="5312880" y="5655960"/>
                <a:ext cx="784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Adresseerbaar objec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5111640" y="5310360"/>
              <a:ext cx="569880" cy="317160"/>
              <a:chOff x="5111640" y="5310360"/>
              <a:chExt cx="569880" cy="317160"/>
            </a:xfrm>
          </p:grpSpPr>
          <p:sp>
            <p:nvSpPr>
              <p:cNvPr id="589" name=""/>
              <p:cNvSpPr/>
              <p:nvPr/>
            </p:nvSpPr>
            <p:spPr>
              <a:xfrm>
                <a:off x="5111640" y="5310360"/>
                <a:ext cx="569880" cy="3171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111640" y="5310360"/>
                <a:ext cx="569880" cy="31716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5174280" y="5342040"/>
              <a:ext cx="45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Standplaats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81840" y="5468760"/>
              <a:ext cx="33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Ligplaa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5738760" y="5310360"/>
              <a:ext cx="569880" cy="317160"/>
              <a:chOff x="5738760" y="5310360"/>
              <a:chExt cx="569880" cy="31716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5738760" y="5310360"/>
                <a:ext cx="569880" cy="317160"/>
                <a:chOff x="5738760" y="5310360"/>
                <a:chExt cx="569880" cy="31716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5738760" y="5310360"/>
                  <a:ext cx="569880" cy="317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738760" y="5310360"/>
                  <a:ext cx="569880" cy="31716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5854680" y="5341680"/>
                <a:ext cx="3283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Verblijfs-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20920" y="5468760"/>
                <a:ext cx="22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5738760" y="4476600"/>
              <a:ext cx="577800" cy="317520"/>
              <a:chOff x="5738760" y="4476600"/>
              <a:chExt cx="577800" cy="31752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5738760" y="4476600"/>
                <a:ext cx="577800" cy="317520"/>
                <a:chOff x="5738760" y="4476600"/>
                <a:chExt cx="577800" cy="31752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5738760" y="4476600"/>
                  <a:ext cx="577800" cy="31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738760" y="4476600"/>
                  <a:ext cx="577800" cy="31752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5958360" y="4572000"/>
                <a:ext cx="1882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Pand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915840" y="3127320"/>
              <a:ext cx="1522440" cy="48744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63880" y="3516480"/>
              <a:ext cx="71280" cy="7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12240" y="2771640"/>
              <a:ext cx="678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Natuurlijk pers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7" name=""/>
            <p:cNvCxnSpPr>
              <a:stCxn id="608" idx="0"/>
              <a:endCxn id="511" idx="4"/>
            </p:cNvCxnSpPr>
            <p:nvPr/>
          </p:nvCxnSpPr>
          <p:spPr>
            <a:xfrm flipH="1" flipV="1" rot="5400000">
              <a:off x="1323720" y="2474280"/>
              <a:ext cx="1003680" cy="295560"/>
            </a:xfrm>
            <a:prstGeom prst="bentConnector3">
              <a:avLst>
                <a:gd name="adj1" fmla="val 67707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609" name=""/>
            <p:cNvCxnSpPr>
              <a:stCxn id="608" idx="0"/>
              <a:endCxn id="521" idx="4"/>
            </p:cNvCxnSpPr>
            <p:nvPr/>
          </p:nvCxnSpPr>
          <p:spPr>
            <a:xfrm flipH="1" flipV="1" rot="5400000">
              <a:off x="1756440" y="2041560"/>
              <a:ext cx="1003680" cy="1161360"/>
            </a:xfrm>
            <a:prstGeom prst="bentConnector3">
              <a:avLst>
                <a:gd name="adj1" fmla="val 67707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610" name=""/>
            <p:cNvCxnSpPr>
              <a:stCxn id="611" idx="0"/>
              <a:endCxn id="523" idx="4"/>
            </p:cNvCxnSpPr>
            <p:nvPr/>
          </p:nvCxnSpPr>
          <p:spPr>
            <a:xfrm flipH="1" flipV="1" rot="5400000">
              <a:off x="2311920" y="2541960"/>
              <a:ext cx="1031040" cy="187920"/>
            </a:xfrm>
            <a:prstGeom prst="bentConnector3">
              <a:avLst>
                <a:gd name="adj1" fmla="val 56828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13" idx="4"/>
              <a:endCxn id="614" idx="2"/>
            </p:cNvCxnSpPr>
            <p:nvPr/>
          </p:nvCxnSpPr>
          <p:spPr>
            <a:xfrm flipH="1" rot="16200000">
              <a:off x="2237040" y="3685320"/>
              <a:ext cx="529200" cy="39600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615" name=""/>
            <p:cNvCxnSpPr>
              <a:stCxn id="613" idx="4"/>
              <a:endCxn id="616" idx="2"/>
            </p:cNvCxnSpPr>
            <p:nvPr/>
          </p:nvCxnSpPr>
          <p:spPr>
            <a:xfrm flipH="1" flipV="1" rot="5400000">
              <a:off x="2469240" y="3389760"/>
              <a:ext cx="64080" cy="396000"/>
            </a:xfrm>
            <a:prstGeom prst="bentConnector4">
              <a:avLst>
                <a:gd name="adj1" fmla="val -824858"/>
                <a:gd name="adj2" fmla="val 65059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11" idx="0"/>
              <a:endCxn id="514" idx="4"/>
            </p:cNvCxnSpPr>
            <p:nvPr/>
          </p:nvCxnSpPr>
          <p:spPr>
            <a:xfrm flipV="1" rot="16200000">
              <a:off x="1313280" y="1730520"/>
              <a:ext cx="1026000" cy="1815480"/>
            </a:xfrm>
            <a:prstGeom prst="bentConnector3">
              <a:avLst>
                <a:gd name="adj1" fmla="val 57248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618" name=""/>
            <p:cNvCxnSpPr>
              <a:endCxn id="437" idx="4"/>
            </p:cNvCxnSpPr>
            <p:nvPr/>
          </p:nvCxnSpPr>
          <p:spPr>
            <a:xfrm flipV="1" rot="16200000">
              <a:off x="855000" y="2292840"/>
              <a:ext cx="988200" cy="658080"/>
            </a:xfrm>
            <a:prstGeom prst="bentConnector3">
              <a:avLst>
                <a:gd name="adj1" fmla="val 68148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619" name=""/>
            <p:cNvCxnSpPr>
              <a:stCxn id="605" idx="4"/>
              <a:endCxn id="493" idx="2"/>
            </p:cNvCxnSpPr>
            <p:nvPr/>
          </p:nvCxnSpPr>
          <p:spPr>
            <a:xfrm flipH="1" rot="16200000">
              <a:off x="2583360" y="3103200"/>
              <a:ext cx="1996200" cy="296460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cxnSp>
          <p:nvCxnSpPr>
            <p:cNvPr id="620" name=""/>
            <p:cNvCxnSpPr>
              <a:stCxn id="489" idx="4"/>
              <a:endCxn id="486" idx="1"/>
            </p:cNvCxnSpPr>
            <p:nvPr/>
          </p:nvCxnSpPr>
          <p:spPr>
            <a:xfrm flipH="1" rot="16200000">
              <a:off x="6132960" y="5505120"/>
              <a:ext cx="715320" cy="126108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cxnSp>
          <p:nvCxnSpPr>
            <p:cNvPr id="621" name=""/>
            <p:cNvCxnSpPr>
              <a:stCxn id="622" idx="4"/>
              <a:endCxn id="623" idx="0"/>
            </p:cNvCxnSpPr>
            <p:nvPr/>
          </p:nvCxnSpPr>
          <p:spPr>
            <a:xfrm flipV="1" rot="10800000">
              <a:off x="3093480" y="1656720"/>
              <a:ext cx="1080" cy="14472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624" name=""/>
            <p:cNvSpPr/>
            <p:nvPr/>
          </p:nvSpPr>
          <p:spPr>
            <a:xfrm>
              <a:off x="3741840" y="1809720"/>
              <a:ext cx="57780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41840" y="1812960"/>
              <a:ext cx="577800" cy="31428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36240" y="1949400"/>
              <a:ext cx="22356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Rech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95920" y="1863720"/>
              <a:ext cx="29196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Zakelij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endCxn id="629" idx="4"/>
            </p:cNvCxnSpPr>
            <p:nvPr/>
          </p:nvCxnSpPr>
          <p:spPr>
            <a:xfrm flipH="1" flipV="1" rot="5400000">
              <a:off x="3735720" y="2340000"/>
              <a:ext cx="446760" cy="3960"/>
            </a:xfrm>
            <a:prstGeom prst="bentConnector3">
              <a:avLst>
                <a:gd name="adj1" fmla="val 49758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endCxn id="631" idx="4"/>
            </p:cNvCxnSpPr>
            <p:nvPr/>
          </p:nvCxnSpPr>
          <p:spPr>
            <a:xfrm flipV="1">
              <a:off x="1800360" y="2121840"/>
              <a:ext cx="2070720" cy="32436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grpSp>
          <p:nvGrpSpPr>
            <p:cNvPr id="632" name=""/>
            <p:cNvGrpSpPr/>
            <p:nvPr/>
          </p:nvGrpSpPr>
          <p:grpSpPr>
            <a:xfrm>
              <a:off x="7155000" y="3044880"/>
              <a:ext cx="696600" cy="214200"/>
              <a:chOff x="7155000" y="3044880"/>
              <a:chExt cx="696600" cy="214200"/>
            </a:xfrm>
          </p:grpSpPr>
          <p:sp>
            <p:nvSpPr>
              <p:cNvPr id="633" name=""/>
              <p:cNvSpPr/>
              <p:nvPr/>
            </p:nvSpPr>
            <p:spPr>
              <a:xfrm>
                <a:off x="7155000" y="3044880"/>
                <a:ext cx="696600" cy="2142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155000" y="3044880"/>
                <a:ext cx="696600" cy="214200"/>
              </a:xfrm>
              <a:prstGeom prst="roundRect">
                <a:avLst>
                  <a:gd name="adj" fmla="val 16667"/>
                </a:avLst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7257240" y="3098880"/>
              <a:ext cx="43668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Lijnele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48120" y="19828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48120" y="1336680"/>
              <a:ext cx="824040" cy="847800"/>
            </a:xfrm>
            <a:custGeom>
              <a:avLst/>
              <a:gdLst>
                <a:gd name="textAreaLeft" fmla="*/ 39960 w 824040"/>
                <a:gd name="textAreaRight" fmla="*/ 784080 w 824040"/>
                <a:gd name="textAreaTop" fmla="*/ 39960 h 847800"/>
                <a:gd name="textAreaBottom" fmla="*/ 807840 h 847800"/>
              </a:gdLst>
              <a:ahLst/>
              <a:rect l="textAreaLeft" t="textAreaTop" r="textAreaRight" b="textAreaBottom"/>
              <a:pathLst>
                <a:path w="21600" h="22223">
                  <a:moveTo>
                    <a:pt x="3600" y="0"/>
                  </a:moveTo>
                  <a:arcTo wR="3600" hR="3600" stAng="16200000" swAng="-5400000"/>
                  <a:lnTo>
                    <a:pt x="0" y="18623"/>
                  </a:lnTo>
                  <a:arcTo wR="3600" hR="3600" stAng="10800000" swAng="-5400000"/>
                  <a:lnTo>
                    <a:pt x="18000" y="222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942080" y="1352520"/>
              <a:ext cx="622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Onroerende zaa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9" name=""/>
            <p:cNvCxnSpPr>
              <a:stCxn id="499" idx="6"/>
              <a:endCxn id="636" idx="2"/>
            </p:cNvCxnSpPr>
            <p:nvPr/>
          </p:nvCxnSpPr>
          <p:spPr>
            <a:xfrm>
              <a:off x="4316040" y="2018880"/>
              <a:ext cx="532440" cy="108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</a:ln>
          </p:spPr>
        </p:cxnSp>
        <p:cxnSp>
          <p:nvCxnSpPr>
            <p:cNvPr id="640" name=""/>
            <p:cNvCxnSpPr>
              <a:stCxn id="641" idx="6"/>
              <a:endCxn id="642" idx="2"/>
            </p:cNvCxnSpPr>
            <p:nvPr/>
          </p:nvCxnSpPr>
          <p:spPr>
            <a:xfrm>
              <a:off x="5668920" y="1812960"/>
              <a:ext cx="1456560" cy="4147200"/>
            </a:xfrm>
            <a:prstGeom prst="bentConnector3">
              <a:avLst>
                <a:gd name="adj1" fmla="val 77206"/>
              </a:avLst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cxnSp>
          <p:nvCxnSpPr>
            <p:cNvPr id="643" name=""/>
            <p:cNvCxnSpPr>
              <a:stCxn id="438" idx="6"/>
              <a:endCxn id="644" idx="0"/>
            </p:cNvCxnSpPr>
            <p:nvPr/>
          </p:nvCxnSpPr>
          <p:spPr>
            <a:xfrm>
              <a:off x="5670360" y="1946160"/>
              <a:ext cx="695520" cy="328680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sp>
          <p:nvSpPr>
            <p:cNvPr id="645" name=""/>
            <p:cNvSpPr/>
            <p:nvPr/>
          </p:nvSpPr>
          <p:spPr>
            <a:xfrm>
              <a:off x="4879800" y="1479600"/>
              <a:ext cx="744840" cy="244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718320" y="209700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95760" y="19558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79800" y="1905120"/>
              <a:ext cx="744840" cy="176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75200" y="1501920"/>
              <a:ext cx="535320" cy="202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Appartemen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rech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7155000" y="2673360"/>
              <a:ext cx="696600" cy="317520"/>
              <a:chOff x="7155000" y="2673360"/>
              <a:chExt cx="696600" cy="31752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7155000" y="2673360"/>
                <a:ext cx="696600" cy="317520"/>
                <a:chOff x="7155000" y="2673360"/>
                <a:chExt cx="696600" cy="31752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7155000" y="2673360"/>
                  <a:ext cx="696600" cy="31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7155000" y="2673360"/>
                  <a:ext cx="696600" cy="31752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7288200" y="2682720"/>
                <a:ext cx="484200" cy="101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Grootschali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97280" y="2878200"/>
                <a:ext cx="237240" cy="101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objec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285320" y="2781360"/>
                <a:ext cx="476280" cy="10116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topografisch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1641600" y="312408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66920" y="3548160"/>
              <a:ext cx="71640" cy="7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43840" y="2014560"/>
              <a:ext cx="71280" cy="7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72080" y="1762200"/>
              <a:ext cx="9684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8" name=""/>
            <p:cNvCxnSpPr>
              <a:stCxn id="504" idx="4"/>
              <a:endCxn id="503" idx="0"/>
            </p:cNvCxnSpPr>
            <p:nvPr/>
          </p:nvCxnSpPr>
          <p:spPr>
            <a:xfrm flipV="1" rot="10800000">
              <a:off x="6143040" y="4789080"/>
              <a:ext cx="1080" cy="51840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493" name=""/>
            <p:cNvSpPr/>
            <p:nvPr/>
          </p:nvSpPr>
          <p:spPr>
            <a:xfrm>
              <a:off x="5064120" y="5546880"/>
              <a:ext cx="71280" cy="7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97120" y="3151080"/>
              <a:ext cx="7164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6191280" y="4665600"/>
              <a:ext cx="114840" cy="114840"/>
              <a:chOff x="6191280" y="4665600"/>
              <a:chExt cx="114840" cy="114840"/>
            </a:xfrm>
          </p:grpSpPr>
          <p:sp>
            <p:nvSpPr>
              <p:cNvPr id="660" name=""/>
              <p:cNvSpPr/>
              <p:nvPr/>
            </p:nvSpPr>
            <p:spPr>
              <a:xfrm>
                <a:off x="6191280" y="466560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221520" y="466560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6200000">
                <a:off x="6239160" y="466524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570800" y="4986360"/>
              <a:ext cx="114840" cy="114840"/>
              <a:chOff x="7570800" y="4986360"/>
              <a:chExt cx="114840" cy="114840"/>
            </a:xfrm>
          </p:grpSpPr>
          <p:sp>
            <p:nvSpPr>
              <p:cNvPr id="664" name=""/>
              <p:cNvSpPr/>
              <p:nvPr/>
            </p:nvSpPr>
            <p:spPr>
              <a:xfrm>
                <a:off x="7570800" y="498636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601040" y="498636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6200000">
                <a:off x="7618680" y="498600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6181560" y="5500800"/>
              <a:ext cx="114840" cy="114840"/>
              <a:chOff x="6181560" y="5500800"/>
              <a:chExt cx="114840" cy="114840"/>
            </a:xfrm>
          </p:grpSpPr>
          <p:sp>
            <p:nvSpPr>
              <p:cNvPr id="668" name=""/>
              <p:cNvSpPr/>
              <p:nvPr/>
            </p:nvSpPr>
            <p:spPr>
              <a:xfrm>
                <a:off x="6181560" y="550080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211800" y="550080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6200000">
                <a:off x="6229440" y="550044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4879800" y="1725480"/>
              <a:ext cx="744840" cy="176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5553000" y="5500800"/>
              <a:ext cx="114840" cy="114840"/>
              <a:chOff x="5553000" y="5500800"/>
              <a:chExt cx="114840" cy="114840"/>
            </a:xfrm>
          </p:grpSpPr>
          <p:sp>
            <p:nvSpPr>
              <p:cNvPr id="673" name=""/>
              <p:cNvSpPr/>
              <p:nvPr/>
            </p:nvSpPr>
            <p:spPr>
              <a:xfrm>
                <a:off x="5553000" y="550080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83240" y="550080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6200000">
                <a:off x="5600880" y="550044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5500800" y="1957320"/>
              <a:ext cx="114840" cy="114840"/>
              <a:chOff x="5500800" y="1957320"/>
              <a:chExt cx="114840" cy="114840"/>
            </a:xfrm>
          </p:grpSpPr>
          <p:sp>
            <p:nvSpPr>
              <p:cNvPr id="677" name=""/>
              <p:cNvSpPr/>
              <p:nvPr/>
            </p:nvSpPr>
            <p:spPr>
              <a:xfrm>
                <a:off x="5500800" y="195732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31040" y="195732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6200000">
                <a:off x="5548680" y="195696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7724880" y="3990960"/>
              <a:ext cx="114840" cy="114840"/>
              <a:chOff x="7724880" y="3990960"/>
              <a:chExt cx="114840" cy="114840"/>
            </a:xfrm>
          </p:grpSpPr>
          <p:sp>
            <p:nvSpPr>
              <p:cNvPr id="681" name=""/>
              <p:cNvSpPr/>
              <p:nvPr/>
            </p:nvSpPr>
            <p:spPr>
              <a:xfrm>
                <a:off x="7724880" y="399096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755120" y="399096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6200000">
                <a:off x="7772760" y="399060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7719840" y="3129120"/>
              <a:ext cx="114840" cy="114480"/>
              <a:chOff x="7719840" y="3129120"/>
              <a:chExt cx="114840" cy="114480"/>
            </a:xfrm>
          </p:grpSpPr>
          <p:sp>
            <p:nvSpPr>
              <p:cNvPr id="685" name=""/>
              <p:cNvSpPr/>
              <p:nvPr/>
            </p:nvSpPr>
            <p:spPr>
              <a:xfrm>
                <a:off x="7719840" y="3129120"/>
                <a:ext cx="114840" cy="114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750080" y="3129120"/>
                <a:ext cx="23400" cy="11448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6200000">
                <a:off x="7767720" y="312840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7719840" y="2859120"/>
              <a:ext cx="114840" cy="114840"/>
              <a:chOff x="7719840" y="2859120"/>
              <a:chExt cx="114840" cy="114840"/>
            </a:xfrm>
          </p:grpSpPr>
          <p:sp>
            <p:nvSpPr>
              <p:cNvPr id="689" name=""/>
              <p:cNvSpPr/>
              <p:nvPr/>
            </p:nvSpPr>
            <p:spPr>
              <a:xfrm>
                <a:off x="7719840" y="285912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750080" y="285912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6200000">
                <a:off x="7767720" y="285876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7704000" y="1996920"/>
              <a:ext cx="114840" cy="114840"/>
              <a:chOff x="7704000" y="1996920"/>
              <a:chExt cx="114840" cy="114840"/>
            </a:xfrm>
          </p:grpSpPr>
          <p:sp>
            <p:nvSpPr>
              <p:cNvPr id="693" name=""/>
              <p:cNvSpPr/>
              <p:nvPr/>
            </p:nvSpPr>
            <p:spPr>
              <a:xfrm>
                <a:off x="7704000" y="199692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734240" y="199692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6200000">
                <a:off x="7751880" y="199656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2670120" y="4110120"/>
              <a:ext cx="747720" cy="396720"/>
              <a:chOff x="2670120" y="4110120"/>
              <a:chExt cx="747720" cy="396720"/>
            </a:xfrm>
          </p:grpSpPr>
          <p:grpSp>
            <p:nvGrpSpPr>
              <p:cNvPr id="697" name=""/>
              <p:cNvGrpSpPr/>
              <p:nvPr/>
            </p:nvGrpSpPr>
            <p:grpSpPr>
              <a:xfrm>
                <a:off x="2670120" y="4110120"/>
                <a:ext cx="747720" cy="396720"/>
                <a:chOff x="2670120" y="4110120"/>
                <a:chExt cx="747720" cy="3967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2670120" y="4110120"/>
                  <a:ext cx="747720" cy="396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670120" y="4110120"/>
                  <a:ext cx="747720" cy="396720"/>
                </a:xfrm>
                <a:prstGeom prst="roundRect">
                  <a:avLst>
                    <a:gd name="adj" fmla="val 16667"/>
                  </a:avLst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0" name=""/>
              <p:cNvSpPr/>
              <p:nvPr/>
            </p:nvSpPr>
            <p:spPr>
              <a:xfrm>
                <a:off x="2726280" y="4306680"/>
                <a:ext cx="6379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Maatschappelijk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887560" y="4379760"/>
                <a:ext cx="3132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activitei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794680" y="4154400"/>
                <a:ext cx="4989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600" spc="-1" strike="noStrike">
                    <a:solidFill>
                      <a:srgbClr val="000000"/>
                    </a:solidFill>
                    <a:latin typeface="Arial"/>
                  </a:rPr>
                  <a:t>Ondernemin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7143840" y="191916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24760" y="5923080"/>
              <a:ext cx="71280" cy="7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57480" y="180180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057480" y="158580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668680" y="1806480"/>
              <a:ext cx="69696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32480" y="1967040"/>
              <a:ext cx="299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verban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43640" y="1871640"/>
              <a:ext cx="23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Diens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897280" y="1397160"/>
              <a:ext cx="503280" cy="260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03840" y="1519200"/>
              <a:ext cx="33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Uitker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13560" y="1424160"/>
              <a:ext cx="18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L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025800" y="411624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25800" y="351936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2" name=""/>
            <p:cNvCxnSpPr>
              <a:stCxn id="711" idx="4"/>
              <a:endCxn id="710" idx="0"/>
            </p:cNvCxnSpPr>
            <p:nvPr/>
          </p:nvCxnSpPr>
          <p:spPr>
            <a:xfrm flipV="1" rot="10800000">
              <a:off x="3061440" y="3590640"/>
              <a:ext cx="1080" cy="525960"/>
            </a:xfrm>
            <a:prstGeom prst="bentConnector2">
              <a:avLst/>
            </a:prstGeom>
            <a:ln w="19080">
              <a:solidFill>
                <a:srgbClr val="333399"/>
              </a:solidFill>
              <a:miter/>
            </a:ln>
          </p:spPr>
        </p:cxnSp>
        <p:sp>
          <p:nvSpPr>
            <p:cNvPr id="614" name=""/>
            <p:cNvSpPr/>
            <p:nvPr/>
          </p:nvSpPr>
          <p:spPr>
            <a:xfrm>
              <a:off x="2698920" y="411156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698920" y="351936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97960" y="1771560"/>
              <a:ext cx="28152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Perce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19400" y="1949400"/>
              <a:ext cx="57384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Leidingnetwer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5504040" y="1779480"/>
              <a:ext cx="114480" cy="114840"/>
              <a:chOff x="5504040" y="1779480"/>
              <a:chExt cx="114480" cy="114840"/>
            </a:xfrm>
          </p:grpSpPr>
          <p:sp>
            <p:nvSpPr>
              <p:cNvPr id="716" name=""/>
              <p:cNvSpPr/>
              <p:nvPr/>
            </p:nvSpPr>
            <p:spPr>
              <a:xfrm>
                <a:off x="5504040" y="1779480"/>
                <a:ext cx="11448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34280" y="177948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6200000">
                <a:off x="5551560" y="1779120"/>
                <a:ext cx="19080" cy="11448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3726000" y="2817720"/>
              <a:ext cx="2112840" cy="873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81360" y="2784600"/>
              <a:ext cx="2098800" cy="871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85120" y="279864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WO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80120" y="339408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10040" y="3149640"/>
              <a:ext cx="69696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11840" y="3154320"/>
              <a:ext cx="69696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42160" y="3270240"/>
              <a:ext cx="43668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WOZ obje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6" name=""/>
            <p:cNvCxnSpPr>
              <a:stCxn id="727" idx="0"/>
            </p:cNvCxnSpPr>
            <p:nvPr/>
          </p:nvCxnSpPr>
          <p:spPr>
            <a:xfrm flipV="1" rot="16200000">
              <a:off x="3322440" y="2606040"/>
              <a:ext cx="707040" cy="389520"/>
            </a:xfrm>
            <a:prstGeom prst="bentConnector3">
              <a:avLst>
                <a:gd name="adj1" fmla="val 100407"/>
              </a:avLst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cxnSp>
          <p:nvCxnSpPr>
            <p:cNvPr id="728" name=""/>
            <p:cNvCxnSpPr>
              <a:stCxn id="724" idx="3"/>
              <a:endCxn id="486" idx="1"/>
            </p:cNvCxnSpPr>
            <p:nvPr/>
          </p:nvCxnSpPr>
          <p:spPr>
            <a:xfrm>
              <a:off x="5608800" y="3312720"/>
              <a:ext cx="1513440" cy="3180600"/>
            </a:xfrm>
            <a:prstGeom prst="bentConnector3">
              <a:avLst>
                <a:gd name="adj1" fmla="val 49940"/>
              </a:avLst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sp>
          <p:nvSpPr>
            <p:cNvPr id="729" name=""/>
            <p:cNvSpPr/>
            <p:nvPr/>
          </p:nvSpPr>
          <p:spPr>
            <a:xfrm>
              <a:off x="5851080" y="3336840"/>
              <a:ext cx="10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IN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0" name=""/>
            <p:cNvCxnSpPr>
              <a:stCxn id="731" idx="4"/>
              <a:endCxn id="493" idx="2"/>
            </p:cNvCxnSpPr>
            <p:nvPr/>
          </p:nvCxnSpPr>
          <p:spPr>
            <a:xfrm flipH="1" rot="16200000">
              <a:off x="3952800" y="4471560"/>
              <a:ext cx="2115360" cy="10872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sp>
          <p:nvSpPr>
            <p:cNvPr id="732" name=""/>
            <p:cNvSpPr/>
            <p:nvPr/>
          </p:nvSpPr>
          <p:spPr>
            <a:xfrm>
              <a:off x="5014440" y="3711600"/>
              <a:ext cx="13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A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911840" y="336708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3" name=""/>
            <p:cNvCxnSpPr>
              <a:endCxn id="734" idx="0"/>
            </p:cNvCxnSpPr>
            <p:nvPr/>
          </p:nvCxnSpPr>
          <p:spPr>
            <a:xfrm>
              <a:off x="2652480" y="2565000"/>
              <a:ext cx="1307160" cy="58644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sp>
          <p:nvSpPr>
            <p:cNvPr id="735" name=""/>
            <p:cNvSpPr/>
            <p:nvPr/>
          </p:nvSpPr>
          <p:spPr>
            <a:xfrm>
              <a:off x="5079960" y="3151080"/>
              <a:ext cx="88920" cy="10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72000" y="317196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7" name=""/>
            <p:cNvCxnSpPr>
              <a:stCxn id="637" idx="2"/>
              <a:endCxn id="724" idx="0"/>
            </p:cNvCxnSpPr>
            <p:nvPr/>
          </p:nvCxnSpPr>
          <p:spPr>
            <a:xfrm flipV="1" rot="10800000">
              <a:off x="5260320" y="2184120"/>
              <a:ext cx="1080" cy="97056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sp>
          <p:nvSpPr>
            <p:cNvPr id="738" name=""/>
            <p:cNvSpPr/>
            <p:nvPr/>
          </p:nvSpPr>
          <p:spPr>
            <a:xfrm>
              <a:off x="5294520" y="2698920"/>
              <a:ext cx="133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OZ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9" name=""/>
            <p:cNvCxnSpPr>
              <a:stCxn id="740" idx="6"/>
              <a:endCxn id="741" idx="3"/>
            </p:cNvCxnSpPr>
            <p:nvPr/>
          </p:nvCxnSpPr>
          <p:spPr>
            <a:xfrm>
              <a:off x="4311720" y="2081160"/>
              <a:ext cx="2160" cy="1231200"/>
            </a:xfrm>
            <a:prstGeom prst="bentConnector3">
              <a:avLst>
                <a:gd name="adj1" fmla="val 14500000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sp>
          <p:nvSpPr>
            <p:cNvPr id="742" name=""/>
            <p:cNvSpPr/>
            <p:nvPr/>
          </p:nvSpPr>
          <p:spPr>
            <a:xfrm>
              <a:off x="5348160" y="336708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222800" y="203040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03880" y="3317760"/>
              <a:ext cx="10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387680" y="3222720"/>
              <a:ext cx="13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BS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5" name=""/>
            <p:cNvCxnSpPr>
              <a:stCxn id="742" idx="4"/>
              <a:endCxn id="602" idx="0"/>
            </p:cNvCxnSpPr>
            <p:nvPr/>
          </p:nvCxnSpPr>
          <p:spPr>
            <a:xfrm flipH="1" rot="16200000">
              <a:off x="5206320" y="3654720"/>
              <a:ext cx="1008720" cy="635760"/>
            </a:xfrm>
            <a:prstGeom prst="bentConnector3">
              <a:avLst>
                <a:gd name="adj1" fmla="val 49910"/>
              </a:avLst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  <p:sp>
          <p:nvSpPr>
            <p:cNvPr id="746" name=""/>
            <p:cNvSpPr/>
            <p:nvPr/>
          </p:nvSpPr>
          <p:spPr>
            <a:xfrm>
              <a:off x="5432040" y="3713040"/>
              <a:ext cx="13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A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5473800" y="3341520"/>
              <a:ext cx="114840" cy="114840"/>
              <a:chOff x="5473800" y="3341520"/>
              <a:chExt cx="114840" cy="114840"/>
            </a:xfrm>
          </p:grpSpPr>
          <p:sp>
            <p:nvSpPr>
              <p:cNvPr id="748" name=""/>
              <p:cNvSpPr/>
              <p:nvPr/>
            </p:nvSpPr>
            <p:spPr>
              <a:xfrm>
                <a:off x="5473800" y="334152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504040" y="3341520"/>
                <a:ext cx="2340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0"/>
                    </a:moveTo>
                    <a:cubicBezTo>
                      <a:pt x="3" y="2"/>
                      <a:pt x="0" y="4"/>
                      <a:pt x="0" y="10"/>
                    </a:cubicBezTo>
                    <a:cubicBezTo>
                      <a:pt x="0" y="16"/>
                      <a:pt x="3" y="17"/>
                      <a:pt x="4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6200000">
                <a:off x="5521680" y="3341160"/>
                <a:ext cx="19080" cy="11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0"/>
                    </a:moveTo>
                    <a:cubicBezTo>
                      <a:pt x="1" y="2"/>
                      <a:pt x="0" y="5"/>
                      <a:pt x="0" y="8"/>
                    </a:cubicBezTo>
                    <a:cubicBezTo>
                      <a:pt x="0" y="11"/>
                      <a:pt x="3" y="18"/>
                      <a:pt x="4" y="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4238640" y="33228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94120" y="33894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27520" y="33894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735360" y="3149640"/>
              <a:ext cx="577800" cy="3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735360" y="3152880"/>
              <a:ext cx="577800" cy="317520"/>
            </a:xfrm>
            <a:prstGeom prst="roundRect">
              <a:avLst>
                <a:gd name="adj" fmla="val 16667"/>
              </a:avLst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93040" y="3267000"/>
              <a:ext cx="266040" cy="101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600" spc="-1" strike="noStrike">
                  <a:solidFill>
                    <a:srgbClr val="000000"/>
                  </a:solidFill>
                  <a:latin typeface="Arial"/>
                </a:rPr>
                <a:t>Bela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894120" y="3208320"/>
              <a:ext cx="360" cy="277920"/>
            </a:xfrm>
            <a:custGeom>
              <a:avLst/>
              <a:gdLst/>
              <a:ahLst/>
              <a:rect l="l" t="t" r="r" b="b"/>
              <a:pathLst>
                <a:path w="21600" h="8348400">
                  <a:moveTo>
                    <a:pt x="3600" y="0"/>
                  </a:moveTo>
                  <a:arcTo wR="3600" hR="3600" stAng="16200000" swAng="-5400000"/>
                  <a:lnTo>
                    <a:pt x="0" y="8344800"/>
                  </a:lnTo>
                  <a:arcTo wR="3600" hR="3600" stAng="10800000" swAng="-5400000"/>
                  <a:lnTo>
                    <a:pt x="18000" y="8348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216320" y="337032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8" name=""/>
            <p:cNvCxnSpPr>
              <a:stCxn id="759" idx="6"/>
              <a:endCxn id="731" idx="2"/>
            </p:cNvCxnSpPr>
            <p:nvPr/>
          </p:nvCxnSpPr>
          <p:spPr>
            <a:xfrm>
              <a:off x="4311360" y="3417480"/>
              <a:ext cx="600840" cy="1080"/>
            </a:xfrm>
            <a:prstGeom prst="bentConnector2">
              <a:avLst/>
            </a:prstGeom>
            <a:ln w="19080">
              <a:solidFill>
                <a:srgbClr val="0066cc"/>
              </a:solidFill>
              <a:miter/>
            </a:ln>
          </p:spPr>
        </p:cxnSp>
        <p:sp>
          <p:nvSpPr>
            <p:cNvPr id="759" name=""/>
            <p:cNvSpPr/>
            <p:nvPr/>
          </p:nvSpPr>
          <p:spPr>
            <a:xfrm>
              <a:off x="4222800" y="336708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14640" y="3151080"/>
              <a:ext cx="88920" cy="10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25720" y="315432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916440" y="201780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25720" y="2021040"/>
              <a:ext cx="88920" cy="10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88080" y="2684520"/>
              <a:ext cx="10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16280" y="2678040"/>
              <a:ext cx="13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000000"/>
                  </a:solidFill>
                  <a:latin typeface="Arial"/>
                </a:rPr>
                <a:t>BS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329520" y="523224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2" name=""/>
            <p:cNvCxnSpPr/>
            <p:nvPr/>
          </p:nvCxnSpPr>
          <p:spPr>
            <a:xfrm flipH="1" flipV="1" rot="5400000">
              <a:off x="2826000" y="2021040"/>
              <a:ext cx="1032480" cy="1227960"/>
            </a:xfrm>
            <a:prstGeom prst="bentConnector3">
              <a:avLst>
                <a:gd name="adj1" fmla="val 56888"/>
              </a:avLst>
            </a:prstGeom>
            <a:ln w="19080">
              <a:solidFill>
                <a:srgbClr val="0066cc"/>
              </a:solidFill>
              <a:miter/>
              <a:tailEnd len="med" type="triangle" w="med"/>
            </a:ln>
          </p:spPr>
        </p:cxnSp>
        <p:cxnSp>
          <p:nvCxnSpPr>
            <p:cNvPr id="763" name=""/>
            <p:cNvCxnSpPr>
              <a:stCxn id="741" idx="1"/>
              <a:endCxn id="699" idx="3"/>
            </p:cNvCxnSpPr>
            <p:nvPr/>
          </p:nvCxnSpPr>
          <p:spPr>
            <a:xfrm flipV="1" rot="10800000">
              <a:off x="3417840" y="3310560"/>
              <a:ext cx="317880" cy="9975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66cc"/>
              </a:solidFill>
              <a:miter/>
              <a:headEnd len="med" type="triangle" w="med"/>
            </a:ln>
          </p:spPr>
        </p:cxnSp>
      </p:grpSp>
      <p:sp>
        <p:nvSpPr>
          <p:cNvPr id="764" name=""/>
          <p:cNvSpPr/>
          <p:nvPr/>
        </p:nvSpPr>
        <p:spPr>
          <a:xfrm>
            <a:off x="4788000" y="4076640"/>
            <a:ext cx="3671640" cy="2781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B968-5721-426C-B0A5-46702B6EB2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8:25:17Z</dcterms:created>
  <dc:creator/>
  <dc:description/>
  <dc:language>en-US</dc:language>
  <cp:lastModifiedBy>Kloosterboer</cp:lastModifiedBy>
  <dcterms:modified xsi:type="dcterms:W3CDTF">2008-10-21T22:04:33Z</dcterms:modified>
  <cp:revision>60</cp:revision>
  <dc:subject/>
  <dc:title>Referentiemodel Stelsel van Gemeentelijke Basisgegevens (RSGB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haredFileIndex">
    <vt:lpwstr/>
  </property>
  <property fmtid="{D5CDD505-2E9C-101B-9397-08002B2CF9AE}" pid="4" name="_SourceUrl">
    <vt:lpwstr/>
  </property>
  <property fmtid="{D5CDD505-2E9C-101B-9397-08002B2CF9AE}" pid="5" name="display_urn:schemas-microsoft-com:office:office#Author">
    <vt:lpwstr>jvde</vt:lpwstr>
  </property>
  <property fmtid="{D5CDD505-2E9C-101B-9397-08002B2CF9AE}" pid="6" name="display_urn:schemas-microsoft-com:office:office#Editor">
    <vt:lpwstr>jvde</vt:lpwstr>
  </property>
  <property fmtid="{D5CDD505-2E9C-101B-9397-08002B2CF9AE}" pid="7" name="xd_ProgID">
    <vt:lpwstr/>
  </property>
  <property fmtid="{D5CDD505-2E9C-101B-9397-08002B2CF9AE}" pid="8" name="xd_Signature">
    <vt:lpwstr/>
  </property>
</Properties>
</file>